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8B66-FCF6-4103-911F-99CC45B15DD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88F9-AEA9-4AB5-AB83-8D24A89A220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FFFB-1593-47DC-AC77-32D8D2E548D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7D34-0CD6-4B96-BEF4-0B8486C9941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0C3A-F763-46EF-872F-6F93C153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D94A-AD89-4900-A0BF-B2BA3346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C903-E36E-4A43-9D08-3A391345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FB85-CD1C-47E4-84AB-AAC9A399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B051-076B-4ED0-9066-82CD65F4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D638-1BD1-4189-A94C-5D7F0C2C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C5CA-7AAA-492B-B113-059A6ACA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EE5C-6210-4313-B004-43D8D466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D490-B111-44B4-B8DD-301D7B16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9F11-8824-487A-B1E1-E698A7D9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0252-7A9C-47B0-B9B1-42D3787D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157D-976F-4AB3-960C-B92C40D0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354C-84F2-4234-9BEC-AAAF3B36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3372-E257-424C-8231-3FD6DF74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7C9A-DE35-4238-88FE-FFB95A37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CECF-5817-4A03-8F93-C8FF502F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25DC-83E0-477E-A3B3-5BC6B53F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33DD-FECB-4360-98F2-E2AE7FB6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B0C4-D8C6-4EFA-A525-FD53054D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4BAA-3FE6-40BD-8D9B-9A245A93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81E6-74CE-4784-B4F5-55A88337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E68F-692F-43A3-AE6E-E10518B8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DAD8-755E-4DD1-ADDE-4592B5C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0596-319B-4751-925F-F386A77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552720" y="6505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E6B1-8FA5-41B8-B3E6-32C910CF792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1" descr="arrow"/>
          <p:cNvPicPr/>
          <p:nvPr/>
        </p:nvPicPr>
        <p:blipFill>
          <a:blip r:embed="rId3"/>
          <a:stretch/>
        </p:blipFill>
        <p:spPr>
          <a:xfrm>
            <a:off x="8077320" y="457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086600" y="6445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440" y="640044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291280" y="6514920"/>
            <a:ext cx="1839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600" y="640044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892E-3B7F-40C7-8C02-1649A760072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64008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精准精细用好管好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财政扶贫资金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5640" y="4800240"/>
            <a:ext cx="42670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市扶贫办资金计划处  周 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086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管好用好财政扶贫资金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5" name="Group 37"/>
          <p:cNvGrpSpPr/>
          <p:nvPr/>
        </p:nvGrpSpPr>
        <p:grpSpPr>
          <a:xfrm>
            <a:off x="2286000" y="2023920"/>
            <a:ext cx="4343040" cy="665280"/>
            <a:chOff x="2286000" y="2023920"/>
            <a:chExt cx="4343040" cy="665280"/>
          </a:xfrm>
        </p:grpSpPr>
        <p:grpSp>
          <p:nvGrpSpPr>
            <p:cNvPr id="206" name="Group 3"/>
            <p:cNvGrpSpPr/>
            <p:nvPr/>
          </p:nvGrpSpPr>
          <p:grpSpPr>
            <a:xfrm>
              <a:off x="2286000" y="2023920"/>
              <a:ext cx="611640" cy="665280"/>
              <a:chOff x="2286000" y="2023920"/>
              <a:chExt cx="611640" cy="665280"/>
            </a:xfrm>
          </p:grpSpPr>
          <p:sp>
            <p:nvSpPr>
              <p:cNvPr id="207" name="AutoShape 4"/>
              <p:cNvSpPr/>
              <p:nvPr/>
            </p:nvSpPr>
            <p:spPr>
              <a:xfrm>
                <a:off x="2291040" y="203508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utoShape 5"/>
              <p:cNvSpPr/>
              <p:nvPr/>
            </p:nvSpPr>
            <p:spPr>
              <a:xfrm>
                <a:off x="2286000" y="202392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6"/>
              <p:cNvSpPr/>
              <p:nvPr/>
            </p:nvSpPr>
            <p:spPr>
              <a:xfrm>
                <a:off x="2320560" y="2063520"/>
                <a:ext cx="533520" cy="57492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474776"/>
                  </a:gs>
                  <a:gs pos="100000">
                    <a:srgbClr val="9999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11"/>
            <p:cNvSpPr/>
            <p:nvPr/>
          </p:nvSpPr>
          <p:spPr>
            <a:xfrm>
              <a:off x="2775240" y="263376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3847680" y="210024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最 新 要 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2411280" y="21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8"/>
          <p:cNvGrpSpPr/>
          <p:nvPr/>
        </p:nvGrpSpPr>
        <p:grpSpPr>
          <a:xfrm>
            <a:off x="2309760" y="2949480"/>
            <a:ext cx="4343040" cy="665280"/>
            <a:chOff x="2309760" y="2949480"/>
            <a:chExt cx="4343040" cy="665280"/>
          </a:xfrm>
        </p:grpSpPr>
        <p:grpSp>
          <p:nvGrpSpPr>
            <p:cNvPr id="214" name="Group 7"/>
            <p:cNvGrpSpPr/>
            <p:nvPr/>
          </p:nvGrpSpPr>
          <p:grpSpPr>
            <a:xfrm>
              <a:off x="2309760" y="2949480"/>
              <a:ext cx="611640" cy="665280"/>
              <a:chOff x="2309760" y="2949480"/>
              <a:chExt cx="611640" cy="665280"/>
            </a:xfrm>
          </p:grpSpPr>
          <p:sp>
            <p:nvSpPr>
              <p:cNvPr id="215" name="AutoShape 8"/>
              <p:cNvSpPr/>
              <p:nvPr/>
            </p:nvSpPr>
            <p:spPr>
              <a:xfrm>
                <a:off x="2314800" y="296064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9"/>
              <p:cNvSpPr/>
              <p:nvPr/>
            </p:nvSpPr>
            <p:spPr>
              <a:xfrm>
                <a:off x="2309760" y="294948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10"/>
              <p:cNvSpPr/>
              <p:nvPr/>
            </p:nvSpPr>
            <p:spPr>
              <a:xfrm>
                <a:off x="2344320" y="2989080"/>
                <a:ext cx="533520" cy="57492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>
              <a:off x="2799000" y="355932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3871440" y="30258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制 度 规 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6"/>
            <p:cNvSpPr/>
            <p:nvPr/>
          </p:nvSpPr>
          <p:spPr>
            <a:xfrm>
              <a:off x="2435040" y="30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9"/>
          <p:cNvGrpSpPr/>
          <p:nvPr/>
        </p:nvGrpSpPr>
        <p:grpSpPr>
          <a:xfrm>
            <a:off x="2286000" y="3830760"/>
            <a:ext cx="4343040" cy="664920"/>
            <a:chOff x="2286000" y="3830760"/>
            <a:chExt cx="4343040" cy="664920"/>
          </a:xfrm>
        </p:grpSpPr>
        <p:grpSp>
          <p:nvGrpSpPr>
            <p:cNvPr id="222" name="Group 17"/>
            <p:cNvGrpSpPr/>
            <p:nvPr/>
          </p:nvGrpSpPr>
          <p:grpSpPr>
            <a:xfrm>
              <a:off x="2286000" y="3830760"/>
              <a:ext cx="611640" cy="664920"/>
              <a:chOff x="2286000" y="3830760"/>
              <a:chExt cx="611640" cy="664920"/>
            </a:xfrm>
          </p:grpSpPr>
          <p:sp>
            <p:nvSpPr>
              <p:cNvPr id="223" name="AutoShape 18"/>
              <p:cNvSpPr/>
              <p:nvPr/>
            </p:nvSpPr>
            <p:spPr>
              <a:xfrm>
                <a:off x="2291040" y="384192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9"/>
              <p:cNvSpPr/>
              <p:nvPr/>
            </p:nvSpPr>
            <p:spPr>
              <a:xfrm>
                <a:off x="2286000" y="383076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20"/>
              <p:cNvSpPr/>
              <p:nvPr/>
            </p:nvSpPr>
            <p:spPr>
              <a:xfrm>
                <a:off x="2320560" y="3870360"/>
                <a:ext cx="533520" cy="57456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474776"/>
                  </a:gs>
                  <a:gs pos="100000">
                    <a:srgbClr val="9999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25"/>
            <p:cNvSpPr/>
            <p:nvPr/>
          </p:nvSpPr>
          <p:spPr>
            <a:xfrm>
              <a:off x="2775240" y="444024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3847680" y="390672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突 出 问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2411280" y="3929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40"/>
          <p:cNvGrpSpPr/>
          <p:nvPr/>
        </p:nvGrpSpPr>
        <p:grpSpPr>
          <a:xfrm>
            <a:off x="2286000" y="4745160"/>
            <a:ext cx="4343040" cy="664920"/>
            <a:chOff x="2286000" y="4745160"/>
            <a:chExt cx="4343040" cy="664920"/>
          </a:xfrm>
        </p:grpSpPr>
        <p:grpSp>
          <p:nvGrpSpPr>
            <p:cNvPr id="230" name="Group 21"/>
            <p:cNvGrpSpPr/>
            <p:nvPr/>
          </p:nvGrpSpPr>
          <p:grpSpPr>
            <a:xfrm>
              <a:off x="2286000" y="4745160"/>
              <a:ext cx="611640" cy="664920"/>
              <a:chOff x="2286000" y="4745160"/>
              <a:chExt cx="611640" cy="664920"/>
            </a:xfrm>
          </p:grpSpPr>
          <p:sp>
            <p:nvSpPr>
              <p:cNvPr id="231" name="AutoShape 22"/>
              <p:cNvSpPr/>
              <p:nvPr/>
            </p:nvSpPr>
            <p:spPr>
              <a:xfrm>
                <a:off x="2291040" y="475632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utoShape 23"/>
              <p:cNvSpPr/>
              <p:nvPr/>
            </p:nvSpPr>
            <p:spPr>
              <a:xfrm>
                <a:off x="2286000" y="474516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utoShape 24"/>
              <p:cNvSpPr/>
              <p:nvPr/>
            </p:nvSpPr>
            <p:spPr>
              <a:xfrm>
                <a:off x="2320560" y="4784760"/>
                <a:ext cx="533520" cy="57456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28"/>
            <p:cNvSpPr/>
            <p:nvPr/>
          </p:nvSpPr>
          <p:spPr>
            <a:xfrm>
              <a:off x="2775240" y="535464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3847680" y="482112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工 作 建 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2411280" y="48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93440" y="1143000"/>
            <a:ext cx="5496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交流四个问题</a:t>
            </a:r>
            <a:r>
              <a:rPr b="1" lang="en-US" sz="1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关于财政扶贫资金使用管理的最新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9880" y="50328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定位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762120" y="1676520"/>
            <a:ext cx="7390800" cy="3655440"/>
            <a:chOff x="762120" y="1676520"/>
            <a:chExt cx="7390800" cy="3655440"/>
          </a:xfrm>
        </p:grpSpPr>
        <p:sp>
          <p:nvSpPr>
            <p:cNvPr id="242" name="AutoShape 4"/>
            <p:cNvSpPr/>
            <p:nvPr/>
          </p:nvSpPr>
          <p:spPr>
            <a:xfrm>
              <a:off x="762120" y="2179440"/>
              <a:ext cx="2841840" cy="2866320"/>
            </a:xfrm>
            <a:custGeom>
              <a:avLst/>
              <a:gdLst>
                <a:gd name="textAreaLeft" fmla="*/ 416160 w 2841840"/>
                <a:gd name="textAreaRight" fmla="*/ 2425680 w 2841840"/>
                <a:gd name="textAreaTop" fmla="*/ 420120 h 2866320"/>
                <a:gd name="textAreaBottom" fmla="*/ 2446200 h 28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5"/>
            <p:cNvSpPr/>
            <p:nvPr/>
          </p:nvSpPr>
          <p:spPr>
            <a:xfrm>
              <a:off x="1052280" y="2458080"/>
              <a:ext cx="2363040" cy="2303280"/>
            </a:xfrm>
            <a:prstGeom prst="ellipse">
              <a:avLst/>
            </a:prstGeom>
            <a:solidFill>
              <a:srgbClr val="6f973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"/>
            <p:cNvSpPr/>
            <p:nvPr/>
          </p:nvSpPr>
          <p:spPr>
            <a:xfrm>
              <a:off x="3123720" y="1676520"/>
              <a:ext cx="4495320" cy="78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贫困群众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救命钱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7"/>
            <p:cNvSpPr/>
            <p:nvPr/>
          </p:nvSpPr>
          <p:spPr>
            <a:xfrm>
              <a:off x="3657600" y="2666520"/>
              <a:ext cx="4495320" cy="75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脱贫攻坚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助推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3657600" y="3612600"/>
              <a:ext cx="4495320" cy="729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各方聚焦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点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0"/>
            <p:cNvSpPr/>
            <p:nvPr/>
          </p:nvSpPr>
          <p:spPr>
            <a:xfrm>
              <a:off x="3276720" y="4571280"/>
              <a:ext cx="4495320" cy="76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持续带电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高压线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15"/>
          <p:cNvSpPr/>
          <p:nvPr/>
        </p:nvSpPr>
        <p:spPr>
          <a:xfrm>
            <a:off x="1179360" y="304812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黑体_GBK"/>
                <a:ea typeface="方正黑体_GBK"/>
              </a:rPr>
              <a:t>扶贫资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黑体_GBK"/>
                <a:ea typeface="方正黑体_GBK"/>
              </a:rPr>
              <a:t>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一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扶贫投入不会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前，经济下行压力较大，财政增收不乐观，但扶贫资金不但不能减，中央和省级财政还要明显增加投入。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“十三五”期间宁肯少上一些大项目，也要确保扶贫投入明显增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按照脱贫攻坚要求，明显增加扶贫投入。现在，有的地方党委和政府、有的行业部门还是按照原来的套路和习惯，对采取非常规措施缺乏突破，这样下去肯定完不成任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坚持政府投入在扶贫开发中的主体和主导作用，增加金融资金对扶贫开发的投放，吸引社会资金参与扶贫开发。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二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配套资金不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越是贫困的地方，越是拿不出配套资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这样扶贫政策就很难落实，效果也不会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些地方同志反映，许多中央财政补助的公益性项目要求地方资金配套，而贫困地区往往配套不起，造成项目难以落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据统计，建档立卡贫困户中有信贷需求的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户，信贷需求规模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元，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扶贫小额信贷实际只覆盖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户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只占有信贷需求贫困户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6.2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三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权责下放不管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财政扶贫分配和使用的效率有待提高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基层最知道自己哪儿疼，却没法开方抓药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行业部门项目资金各有各的使用方向、各有各的管理考核办法，贫困县难以整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增加财政投入的同时，要加大扶贫资金整合力度。一方面财政投入不足，另一方面有限的资金又被分割，造成资金使用效率低下，各地对此反映强烈。这个问题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表现在下边，根子在上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必须下决心解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534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四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一分一厘不乱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是贫困群众的“救命钱”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分一厘都不能乱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更容不得动手脚、玩猫腻！我非常不满意，甚至愤怒的是扶贫款项被截流和挪作他用，和救灾款被挪用一样，那是犯罪行为。必须坚决杜绝，坚决反对，坚决查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量大、面广、点多、线长，监管难度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社会各方面关注高。一些地方扶贫项目规划不科学不合理，资金闲置浪费。一些地方资金使用不公开不透明，群众不知晓、难监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五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违法乱纪不姑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加强扶贫资金阳光化管理，加强审计监督，集中整治和查处扶贫领域的职务犯罪，对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挤占挪用、层层截留、虚报冒领、挥霍浪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的，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从严惩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资金使用管理方面，一些地方虚报冒领、贪占挪用扶贫资金等问题时有发生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主要发生在乡村两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领域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苍蝇式腐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虽然可能是单个案件金额不大，但危害不可小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加大惩治力度，对扶贫领域腐败问题，发现一起，严肃查处问责一些，绝不姑息迁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11"/>
          <p:cNvGrpSpPr/>
          <p:nvPr/>
        </p:nvGrpSpPr>
        <p:grpSpPr>
          <a:xfrm>
            <a:off x="1009800" y="1295280"/>
            <a:ext cx="7143120" cy="1219320"/>
            <a:chOff x="1009800" y="1295280"/>
            <a:chExt cx="7143120" cy="1219320"/>
          </a:xfrm>
        </p:grpSpPr>
        <p:sp>
          <p:nvSpPr>
            <p:cNvPr id="260" name="AutoShape 12"/>
            <p:cNvSpPr/>
            <p:nvPr/>
          </p:nvSpPr>
          <p:spPr>
            <a:xfrm>
              <a:off x="1009800" y="1447560"/>
              <a:ext cx="714312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bc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1009800" y="1295280"/>
              <a:ext cx="7143120" cy="824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4"/>
            <p:cNvSpPr/>
            <p:nvPr/>
          </p:nvSpPr>
          <p:spPr>
            <a:xfrm flipV="1">
              <a:off x="1009800" y="1828440"/>
              <a:ext cx="713808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扶贫资金使用管理的新变化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066680" y="4673520"/>
            <a:ext cx="7111800" cy="1219320"/>
            <a:chOff x="1066680" y="4673520"/>
            <a:chExt cx="7111800" cy="1219320"/>
          </a:xfrm>
        </p:grpSpPr>
        <p:sp>
          <p:nvSpPr>
            <p:cNvPr id="265" name="AutoShape 4"/>
            <p:cNvSpPr/>
            <p:nvPr/>
          </p:nvSpPr>
          <p:spPr>
            <a:xfrm>
              <a:off x="1066680" y="4825800"/>
              <a:ext cx="7111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c8d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1066680" y="4673520"/>
              <a:ext cx="7111800" cy="824040"/>
            </a:xfrm>
            <a:prstGeom prst="roundRect">
              <a:avLst>
                <a:gd name="adj" fmla="val 16667"/>
              </a:avLst>
            </a:prstGeom>
            <a:solidFill>
              <a:srgbClr val="93c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6"/>
            <p:cNvSpPr/>
            <p:nvPr/>
          </p:nvSpPr>
          <p:spPr>
            <a:xfrm flipV="1">
              <a:off x="1066680" y="5206680"/>
              <a:ext cx="71067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7"/>
          <p:cNvGrpSpPr/>
          <p:nvPr/>
        </p:nvGrpSpPr>
        <p:grpSpPr>
          <a:xfrm>
            <a:off x="1066680" y="3043080"/>
            <a:ext cx="7137000" cy="1219320"/>
            <a:chOff x="1066680" y="3043080"/>
            <a:chExt cx="7137000" cy="1219320"/>
          </a:xfrm>
        </p:grpSpPr>
        <p:sp>
          <p:nvSpPr>
            <p:cNvPr id="269" name="AutoShape 8"/>
            <p:cNvSpPr/>
            <p:nvPr/>
          </p:nvSpPr>
          <p:spPr>
            <a:xfrm>
              <a:off x="1066680" y="3195720"/>
              <a:ext cx="71370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9"/>
            <p:cNvSpPr/>
            <p:nvPr/>
          </p:nvSpPr>
          <p:spPr>
            <a:xfrm>
              <a:off x="1066680" y="3043080"/>
              <a:ext cx="7137000" cy="82404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0"/>
            <p:cNvSpPr/>
            <p:nvPr/>
          </p:nvSpPr>
          <p:spPr>
            <a:xfrm flipV="1">
              <a:off x="1066680" y="3576240"/>
              <a:ext cx="71319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5"/>
          <p:cNvSpPr/>
          <p:nvPr/>
        </p:nvSpPr>
        <p:spPr>
          <a:xfrm>
            <a:off x="2601000" y="1447920"/>
            <a:ext cx="41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资金来源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财政投入”向“多元参与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569320" y="3265560"/>
            <a:ext cx="41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资金口径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专项资金”向“整合资金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2601000" y="4816440"/>
            <a:ext cx="41734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使用方式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给钱给物”向“机制链接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8"/>
          <p:cNvSpPr/>
          <p:nvPr/>
        </p:nvSpPr>
        <p:spPr>
          <a:xfrm>
            <a:off x="1619280" y="2031840"/>
            <a:ext cx="7345440" cy="8416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继续保持财政扶贫资金投入强度的同时，壮大另外“三条腿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银行信贷、市场主体、社会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9"/>
          <p:cNvSpPr/>
          <p:nvPr/>
        </p:nvSpPr>
        <p:spPr>
          <a:xfrm>
            <a:off x="1619280" y="3840120"/>
            <a:ext cx="7345440" cy="5446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财政专项扶贫资金精准到村到户到人，整合资金解决面上突出贫困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0"/>
          <p:cNvSpPr/>
          <p:nvPr/>
        </p:nvSpPr>
        <p:spPr>
          <a:xfrm>
            <a:off x="1743120" y="5427720"/>
            <a:ext cx="7221600" cy="830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3c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除低保兜底发放现金外，原则上不得采取直接发放钱物的方式进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更多采取以奖代补、事后奖补、劳务补助等方式，探索财政扶贫资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改补为借、改补为贷、改补为股、改补为酬、改补为奖等办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扶贫资金使用管理的新变化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9" name="Group 7"/>
          <p:cNvGrpSpPr/>
          <p:nvPr/>
        </p:nvGrpSpPr>
        <p:grpSpPr>
          <a:xfrm>
            <a:off x="844560" y="4497480"/>
            <a:ext cx="7137000" cy="1218600"/>
            <a:chOff x="844560" y="4497480"/>
            <a:chExt cx="7137000" cy="1218600"/>
          </a:xfrm>
        </p:grpSpPr>
        <p:sp>
          <p:nvSpPr>
            <p:cNvPr id="280" name="AutoShape 8"/>
            <p:cNvSpPr/>
            <p:nvPr/>
          </p:nvSpPr>
          <p:spPr>
            <a:xfrm>
              <a:off x="844560" y="4649760"/>
              <a:ext cx="7137000" cy="106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844560" y="4497480"/>
              <a:ext cx="7137000" cy="82368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0"/>
            <p:cNvSpPr/>
            <p:nvPr/>
          </p:nvSpPr>
          <p:spPr>
            <a:xfrm flipV="1">
              <a:off x="844560" y="5029560"/>
              <a:ext cx="713196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1"/>
          <p:cNvGrpSpPr/>
          <p:nvPr/>
        </p:nvGrpSpPr>
        <p:grpSpPr>
          <a:xfrm>
            <a:off x="844560" y="2955960"/>
            <a:ext cx="7143480" cy="1219320"/>
            <a:chOff x="844560" y="2955960"/>
            <a:chExt cx="7143480" cy="1219320"/>
          </a:xfrm>
        </p:grpSpPr>
        <p:sp>
          <p:nvSpPr>
            <p:cNvPr id="284" name="AutoShape 12"/>
            <p:cNvSpPr/>
            <p:nvPr/>
          </p:nvSpPr>
          <p:spPr>
            <a:xfrm>
              <a:off x="844560" y="3108240"/>
              <a:ext cx="714348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bc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3"/>
            <p:cNvSpPr/>
            <p:nvPr/>
          </p:nvSpPr>
          <p:spPr>
            <a:xfrm>
              <a:off x="844560" y="2955960"/>
              <a:ext cx="7143480" cy="824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14"/>
            <p:cNvSpPr/>
            <p:nvPr/>
          </p:nvSpPr>
          <p:spPr>
            <a:xfrm flipV="1">
              <a:off x="844560" y="3489120"/>
              <a:ext cx="713844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ectangle 15"/>
          <p:cNvSpPr/>
          <p:nvPr/>
        </p:nvSpPr>
        <p:spPr>
          <a:xfrm>
            <a:off x="2631960" y="30304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评价方式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凭感觉凭感情”向“看过程重结果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2221200" y="47181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管理手段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老办法”向“新手段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1397160" y="3747960"/>
            <a:ext cx="7345080" cy="52884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过程看效率，结果看效果；事后向事前事中转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1397160" y="5221440"/>
            <a:ext cx="7345080" cy="104760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既要打人海战术，用“笨办法”，又要善于用互联网、大数据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移动互联等手段，实现动态化、数字化、常态化管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7"/>
          <p:cNvGrpSpPr/>
          <p:nvPr/>
        </p:nvGrpSpPr>
        <p:grpSpPr>
          <a:xfrm>
            <a:off x="844560" y="1371600"/>
            <a:ext cx="7137000" cy="1219320"/>
            <a:chOff x="844560" y="1371600"/>
            <a:chExt cx="7137000" cy="1219320"/>
          </a:xfrm>
        </p:grpSpPr>
        <p:sp>
          <p:nvSpPr>
            <p:cNvPr id="292" name="AutoShape 8"/>
            <p:cNvSpPr/>
            <p:nvPr/>
          </p:nvSpPr>
          <p:spPr>
            <a:xfrm>
              <a:off x="844560" y="1524240"/>
              <a:ext cx="71370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>
              <a:off x="844560" y="1371600"/>
              <a:ext cx="7137000" cy="82404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0"/>
            <p:cNvSpPr/>
            <p:nvPr/>
          </p:nvSpPr>
          <p:spPr>
            <a:xfrm flipV="1">
              <a:off x="844560" y="1904760"/>
              <a:ext cx="71319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16"/>
          <p:cNvSpPr/>
          <p:nvPr/>
        </p:nvSpPr>
        <p:spPr>
          <a:xfrm>
            <a:off x="2473560" y="1593720"/>
            <a:ext cx="45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管理重点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查处“乱作为”向防止“不作为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9"/>
          <p:cNvSpPr/>
          <p:nvPr/>
        </p:nvSpPr>
        <p:spPr>
          <a:xfrm>
            <a:off x="1397160" y="2095560"/>
            <a:ext cx="7345080" cy="7174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既要坚决查处挤占挪用、层层截留、虚报冒领、挥霍浪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又要注意防止资金闲置滞留、大量结转结余、趴在账上睡大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75"/>
          <p:cNvSpPr/>
          <p:nvPr/>
        </p:nvSpPr>
        <p:spPr>
          <a:xfrm>
            <a:off x="152280" y="43434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8120" y="503280"/>
            <a:ext cx="5029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826920" y="3957480"/>
            <a:ext cx="2601720" cy="1692360"/>
            <a:chOff x="826920" y="3957480"/>
            <a:chExt cx="2601720" cy="1692360"/>
          </a:xfrm>
        </p:grpSpPr>
        <p:sp>
          <p:nvSpPr>
            <p:cNvPr id="96" name="AutoShape 4"/>
            <p:cNvSpPr/>
            <p:nvPr/>
          </p:nvSpPr>
          <p:spPr>
            <a:xfrm>
              <a:off x="826920" y="3957480"/>
              <a:ext cx="2601720" cy="1692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935280" y="4084200"/>
              <a:ext cx="23198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贫：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分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贝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钱财匮乏，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财者谓之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某种性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>
            <a:off x="3222720" y="3860640"/>
            <a:ext cx="903240" cy="1195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bad7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1571760" y="1879560"/>
            <a:ext cx="7038360" cy="1743120"/>
            <a:chOff x="1571760" y="1879560"/>
            <a:chExt cx="7038360" cy="1743120"/>
          </a:xfrm>
        </p:grpSpPr>
        <p:grpSp>
          <p:nvGrpSpPr>
            <p:cNvPr id="100" name="Group 9"/>
            <p:cNvGrpSpPr/>
            <p:nvPr/>
          </p:nvGrpSpPr>
          <p:grpSpPr>
            <a:xfrm>
              <a:off x="1690200" y="1879560"/>
              <a:ext cx="5200920" cy="1743120"/>
              <a:chOff x="1690200" y="1879560"/>
              <a:chExt cx="5200920" cy="1743120"/>
            </a:xfrm>
          </p:grpSpPr>
          <p:grpSp>
            <p:nvGrpSpPr>
              <p:cNvPr id="101" name="Group 10"/>
              <p:cNvGrpSpPr/>
              <p:nvPr/>
            </p:nvGrpSpPr>
            <p:grpSpPr>
              <a:xfrm>
                <a:off x="1690200" y="2035080"/>
                <a:ext cx="5200920" cy="1587600"/>
                <a:chOff x="1690200" y="2035080"/>
                <a:chExt cx="5200920" cy="1587600"/>
              </a:xfrm>
            </p:grpSpPr>
            <p:sp>
              <p:nvSpPr>
                <p:cNvPr id="102" name="Oval 11"/>
                <p:cNvSpPr/>
                <p:nvPr/>
              </p:nvSpPr>
              <p:spPr>
                <a:xfrm>
                  <a:off x="1747080" y="2085480"/>
                  <a:ext cx="5144040" cy="153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a4a7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12"/>
                <p:cNvSpPr/>
                <p:nvPr/>
              </p:nvSpPr>
              <p:spPr>
                <a:xfrm>
                  <a:off x="1690200" y="2035080"/>
                  <a:ext cx="5144040" cy="153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2ff"/>
                    </a:gs>
                    <a:gs pos="100000">
                      <a:srgbClr val="9999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Oval 13"/>
              <p:cNvSpPr/>
              <p:nvPr/>
            </p:nvSpPr>
            <p:spPr>
              <a:xfrm>
                <a:off x="1935360" y="1879560"/>
                <a:ext cx="4656240" cy="1460520"/>
              </a:xfrm>
              <a:prstGeom prst="ellipse">
                <a:avLst/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5"/>
              <p:cNvSpPr/>
              <p:nvPr/>
            </p:nvSpPr>
            <p:spPr>
              <a:xfrm>
                <a:off x="2042640" y="1902240"/>
                <a:ext cx="4322520" cy="1323720"/>
              </a:xfrm>
              <a:prstGeom prst="ellipse">
                <a:avLst/>
              </a:prstGeom>
              <a:gradFill rotWithShape="0">
                <a:gsLst>
                  <a:gs pos="0">
                    <a:srgbClr val="3e84b9"/>
                  </a:gs>
                  <a:gs pos="100000">
                    <a:srgbClr val="4ea7ea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6"/>
              <p:cNvSpPr/>
              <p:nvPr/>
            </p:nvSpPr>
            <p:spPr>
              <a:xfrm>
                <a:off x="2271240" y="1931400"/>
                <a:ext cx="3804840" cy="107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ea7ea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17"/>
            <p:cNvSpPr/>
            <p:nvPr/>
          </p:nvSpPr>
          <p:spPr>
            <a:xfrm>
              <a:off x="1571760" y="1936080"/>
              <a:ext cx="703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贫困：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贫乏”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困境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活困难，贫穷（现代汉语词典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经济或精神上的贫乏窘困（百度百科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缺少达到最低生活水准能力的人（世界银行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0"/>
          <p:cNvGrpSpPr/>
          <p:nvPr/>
        </p:nvGrpSpPr>
        <p:grpSpPr>
          <a:xfrm>
            <a:off x="5429160" y="3965400"/>
            <a:ext cx="2754000" cy="3286080"/>
            <a:chOff x="5429160" y="3965400"/>
            <a:chExt cx="2754000" cy="3286080"/>
          </a:xfrm>
        </p:grpSpPr>
        <p:sp>
          <p:nvSpPr>
            <p:cNvPr id="109" name="AutoShape 3"/>
            <p:cNvSpPr/>
            <p:nvPr/>
          </p:nvSpPr>
          <p:spPr>
            <a:xfrm>
              <a:off x="5429160" y="3965400"/>
              <a:ext cx="2754000" cy="17866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5596200" y="4140000"/>
              <a:ext cx="24858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困：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口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木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活困难，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能者谓之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某种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Freeform 8"/>
          <p:cNvSpPr/>
          <p:nvPr/>
        </p:nvSpPr>
        <p:spPr>
          <a:xfrm flipH="1">
            <a:off x="4874400" y="3860640"/>
            <a:ext cx="903240" cy="1195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、关于财政扶贫资金使用管理的制度规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重庆市扶贫资金项目的主要制度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uzzle3"/>
          <p:cNvSpPr/>
          <p:nvPr/>
        </p:nvSpPr>
        <p:spPr>
          <a:xfrm>
            <a:off x="4216320" y="1676520"/>
            <a:ext cx="1736640" cy="2325600"/>
          </a:xfrm>
          <a:custGeom>
            <a:avLst/>
            <a:gdLst>
              <a:gd name="textAreaLeft" fmla="*/ 182520 w 1736640"/>
              <a:gd name="textAreaRight" fmla="*/ 1539720 w 1736640"/>
              <a:gd name="textAreaTop" fmla="*/ 830880 h 2325600"/>
              <a:gd name="textAreaBottom" fmla="*/ 2179080 h 232560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gradFill rotWithShape="0">
            <a:gsLst>
              <a:gs pos="0">
                <a:srgbClr val="326a95"/>
              </a:gs>
              <a:gs pos="100000">
                <a:srgbClr val="4ea7ea"/>
              </a:gs>
            </a:gsLst>
            <a:lin ang="54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uzzle2"/>
          <p:cNvSpPr/>
          <p:nvPr/>
        </p:nvSpPr>
        <p:spPr>
          <a:xfrm>
            <a:off x="3710160" y="3370320"/>
            <a:ext cx="2773080" cy="2135160"/>
          </a:xfrm>
          <a:custGeom>
            <a:avLst/>
            <a:gdLst>
              <a:gd name="textAreaLeft" fmla="*/ 691560 w 2773080"/>
              <a:gd name="textAreaRight" fmla="*/ 2076840 w 2773080"/>
              <a:gd name="textAreaTop" fmla="*/ 666360 h 2135160"/>
              <a:gd name="textAreaBottom" fmla="*/ 2020680 h 213516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gradFill rotWithShape="0">
            <a:gsLst>
              <a:gs pos="0">
                <a:srgbClr val="cee2b0"/>
              </a:gs>
              <a:gs pos="100000">
                <a:srgbClr val="93c052"/>
              </a:gs>
            </a:gsLst>
            <a:lin ang="54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uzzle4"/>
          <p:cNvSpPr/>
          <p:nvPr/>
        </p:nvSpPr>
        <p:spPr>
          <a:xfrm>
            <a:off x="2638440" y="3344760"/>
            <a:ext cx="1679400" cy="2708280"/>
          </a:xfrm>
          <a:custGeom>
            <a:avLst/>
            <a:gdLst>
              <a:gd name="textAreaLeft" fmla="*/ 161280 w 1679400"/>
              <a:gd name="textAreaRight" fmla="*/ 1571040 w 1679400"/>
              <a:gd name="textAreaTop" fmla="*/ 709920 h 2708280"/>
              <a:gd name="textAreaBottom" fmla="*/ 2003760 h 270828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cbcbff"/>
              </a:gs>
            </a:gsLst>
            <a:lin ang="189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uzzle1"/>
          <p:cNvSpPr/>
          <p:nvPr/>
        </p:nvSpPr>
        <p:spPr>
          <a:xfrm>
            <a:off x="2063880" y="2379600"/>
            <a:ext cx="2806560" cy="1614600"/>
          </a:xfrm>
          <a:custGeom>
            <a:avLst/>
            <a:gdLst>
              <a:gd name="textAreaLeft" fmla="*/ 790560 w 2806560"/>
              <a:gd name="textAreaRight" fmla="*/ 2096280 w 2806560"/>
              <a:gd name="textAreaTop" fmla="*/ 191880 h 1614600"/>
              <a:gd name="textAreaBottom" fmla="*/ 1461600 h 161460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gradFill rotWithShape="0">
            <a:gsLst>
              <a:gs pos="0">
                <a:srgbClr val="855ada"/>
              </a:gs>
              <a:gs pos="100000">
                <a:srgbClr val="3e2a65"/>
              </a:gs>
            </a:gsLst>
            <a:lin ang="27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463440" y="335268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财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专项扶贫资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绩效评价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33520" y="3505320"/>
            <a:ext cx="21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工程类扶贫项目监督管理办法（试行）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80880" y="13716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财政专项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贫资金管理实施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968640" y="5729400"/>
            <a:ext cx="36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扶贫资金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公告公示实施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9120" y="914040"/>
            <a:ext cx="69339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71"/>
          <p:cNvGrpSpPr/>
          <p:nvPr/>
        </p:nvGrpSpPr>
        <p:grpSpPr>
          <a:xfrm>
            <a:off x="756720" y="2155680"/>
            <a:ext cx="7507080" cy="4930560"/>
            <a:chOff x="756720" y="2155680"/>
            <a:chExt cx="7507080" cy="4930560"/>
          </a:xfrm>
        </p:grpSpPr>
        <p:sp>
          <p:nvSpPr>
            <p:cNvPr id="309" name="Line 37"/>
            <p:cNvSpPr/>
            <p:nvPr/>
          </p:nvSpPr>
          <p:spPr>
            <a:xfrm flipH="1">
              <a:off x="756720" y="5231520"/>
              <a:ext cx="296820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8"/>
            <p:cNvSpPr/>
            <p:nvPr/>
          </p:nvSpPr>
          <p:spPr>
            <a:xfrm flipH="1">
              <a:off x="1054440" y="4307400"/>
              <a:ext cx="347400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9"/>
            <p:cNvSpPr/>
            <p:nvPr/>
          </p:nvSpPr>
          <p:spPr>
            <a:xfrm flipH="1">
              <a:off x="1054080" y="3227040"/>
              <a:ext cx="397908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0"/>
            <p:cNvSpPr/>
            <p:nvPr/>
          </p:nvSpPr>
          <p:spPr>
            <a:xfrm flipH="1">
              <a:off x="756720" y="2155680"/>
              <a:ext cx="4421160" cy="180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41"/>
            <p:cNvSpPr/>
            <p:nvPr/>
          </p:nvSpPr>
          <p:spPr>
            <a:xfrm>
              <a:off x="1305720" y="2305440"/>
              <a:ext cx="1800" cy="921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42"/>
            <p:cNvSpPr/>
            <p:nvPr/>
          </p:nvSpPr>
          <p:spPr>
            <a:xfrm>
              <a:off x="1305720" y="3227040"/>
              <a:ext cx="1800" cy="1090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3"/>
            <p:cNvSpPr/>
            <p:nvPr/>
          </p:nvSpPr>
          <p:spPr>
            <a:xfrm>
              <a:off x="1305720" y="4318200"/>
              <a:ext cx="1800" cy="1090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2052000" y="25621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扶贫（发展）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7"/>
            <p:cNvSpPr/>
            <p:nvPr/>
          </p:nvSpPr>
          <p:spPr>
            <a:xfrm>
              <a:off x="1904040" y="36291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专项扶贫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8"/>
            <p:cNvSpPr/>
            <p:nvPr/>
          </p:nvSpPr>
          <p:spPr>
            <a:xfrm>
              <a:off x="2052000" y="461556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涉农统筹整合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015560" y="6675840"/>
              <a:ext cx="21672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6"/>
            <p:cNvSpPr/>
            <p:nvPr/>
          </p:nvSpPr>
          <p:spPr>
            <a:xfrm>
              <a:off x="4951440" y="4870080"/>
              <a:ext cx="3312360" cy="5112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8"/>
            <p:cNvSpPr/>
            <p:nvPr/>
          </p:nvSpPr>
          <p:spPr>
            <a:xfrm>
              <a:off x="7453440" y="3973680"/>
              <a:ext cx="731880" cy="126000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1260000"/>
                <a:gd name="textAreaBottom" fmla="*/ 1260360 h 126000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9"/>
            <p:cNvSpPr/>
            <p:nvPr/>
          </p:nvSpPr>
          <p:spPr>
            <a:xfrm>
              <a:off x="5485320" y="3973680"/>
              <a:ext cx="2211480" cy="339840"/>
            </a:xfrm>
            <a:custGeom>
              <a:avLst/>
              <a:gdLst>
                <a:gd name="textAreaLeft" fmla="*/ 0 w 2211480"/>
                <a:gd name="textAreaRight" fmla="*/ 2211840 w 2211480"/>
                <a:gd name="textAreaTop" fmla="*/ 0 h 339840"/>
                <a:gd name="textAreaBottom" fmla="*/ 339840 h 33984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0"/>
            <p:cNvSpPr/>
            <p:nvPr/>
          </p:nvSpPr>
          <p:spPr>
            <a:xfrm>
              <a:off x="5028480" y="4311720"/>
              <a:ext cx="2862720" cy="921960"/>
            </a:xfrm>
            <a:custGeom>
              <a:avLst/>
              <a:gdLst>
                <a:gd name="textAreaLeft" fmla="*/ 0 w 2862720"/>
                <a:gd name="textAreaRight" fmla="*/ 2863080 w 2862720"/>
                <a:gd name="textAreaTop" fmla="*/ 0 h 921960"/>
                <a:gd name="textAreaBottom" fmla="*/ 922320 h 921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1"/>
            <p:cNvSpPr/>
            <p:nvPr/>
          </p:nvSpPr>
          <p:spPr>
            <a:xfrm>
              <a:off x="6989040" y="3064680"/>
              <a:ext cx="629280" cy="1095120"/>
            </a:xfrm>
            <a:custGeom>
              <a:avLst/>
              <a:gdLst>
                <a:gd name="textAreaLeft" fmla="*/ 0 w 629280"/>
                <a:gd name="textAreaRight" fmla="*/ 629640 w 6292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2"/>
            <p:cNvSpPr/>
            <p:nvPr/>
          </p:nvSpPr>
          <p:spPr>
            <a:xfrm>
              <a:off x="5960880" y="3064680"/>
              <a:ext cx="1104840" cy="16488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3"/>
            <p:cNvSpPr/>
            <p:nvPr/>
          </p:nvSpPr>
          <p:spPr>
            <a:xfrm>
              <a:off x="5522760" y="3146040"/>
              <a:ext cx="1864800" cy="932400"/>
            </a:xfrm>
            <a:custGeom>
              <a:avLst/>
              <a:gdLst>
                <a:gd name="textAreaLeft" fmla="*/ 0 w 1864800"/>
                <a:gd name="textAreaRight" fmla="*/ 1865160 w 1864800"/>
                <a:gd name="textAreaTop" fmla="*/ 0 h 932400"/>
                <a:gd name="textAreaBottom" fmla="*/ 932760 h 93240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4"/>
            <p:cNvSpPr/>
            <p:nvPr/>
          </p:nvSpPr>
          <p:spPr>
            <a:xfrm>
              <a:off x="6455160" y="2155680"/>
              <a:ext cx="531360" cy="928440"/>
            </a:xfrm>
            <a:custGeom>
              <a:avLst/>
              <a:gdLst>
                <a:gd name="textAreaLeft" fmla="*/ 0 w 531360"/>
                <a:gd name="textAreaRight" fmla="*/ 531720 w 5313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5"/>
            <p:cNvSpPr/>
            <p:nvPr/>
          </p:nvSpPr>
          <p:spPr>
            <a:xfrm>
              <a:off x="6017040" y="2155680"/>
              <a:ext cx="865080" cy="92844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6"/>
            <p:cNvSpPr/>
            <p:nvPr/>
          </p:nvSpPr>
          <p:spPr>
            <a:xfrm>
              <a:off x="6128640" y="24721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36.6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7"/>
            <p:cNvSpPr/>
            <p:nvPr/>
          </p:nvSpPr>
          <p:spPr>
            <a:xfrm>
              <a:off x="5940720" y="341532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51.7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亿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8"/>
            <p:cNvSpPr/>
            <p:nvPr/>
          </p:nvSpPr>
          <p:spPr>
            <a:xfrm>
              <a:off x="5715000" y="4466160"/>
              <a:ext cx="157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130.5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亿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标题 1"/>
          <p:cNvSpPr/>
          <p:nvPr/>
        </p:nvSpPr>
        <p:spPr>
          <a:xfrm>
            <a:off x="757080" y="533520"/>
            <a:ext cx="716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的口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95"/>
          <p:cNvGrpSpPr/>
          <p:nvPr/>
        </p:nvGrpSpPr>
        <p:grpSpPr>
          <a:xfrm>
            <a:off x="899280" y="1798560"/>
            <a:ext cx="8047800" cy="3886200"/>
            <a:chOff x="899280" y="1798560"/>
            <a:chExt cx="8047800" cy="3886200"/>
          </a:xfrm>
        </p:grpSpPr>
        <p:sp>
          <p:nvSpPr>
            <p:cNvPr id="334" name="矩形 5"/>
            <p:cNvSpPr/>
            <p:nvPr/>
          </p:nvSpPr>
          <p:spPr>
            <a:xfrm>
              <a:off x="1485720" y="1798560"/>
              <a:ext cx="1731960" cy="850680"/>
            </a:xfrm>
            <a:prstGeom prst="rect">
              <a:avLst/>
            </a:prstGeom>
            <a:solidFill>
              <a:srgbClr val="93c052"/>
            </a:solidFill>
            <a:ln w="25560">
              <a:solidFill>
                <a:srgbClr val="6b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贫困状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6"/>
            <p:cNvSpPr/>
            <p:nvPr/>
          </p:nvSpPr>
          <p:spPr>
            <a:xfrm>
              <a:off x="1485720" y="2825640"/>
              <a:ext cx="1731960" cy="850680"/>
            </a:xfrm>
            <a:prstGeom prst="rect">
              <a:avLst/>
            </a:prstGeom>
            <a:gradFill rotWithShape="0">
              <a:gsLst>
                <a:gs pos="0">
                  <a:srgbClr val="267dbf"/>
                </a:gs>
                <a:gs pos="100000">
                  <a:srgbClr val="31a6fe"/>
                </a:gs>
              </a:gsLst>
              <a:lin ang="16200000"/>
            </a:gradFill>
            <a:ln w="9360">
              <a:solidFill>
                <a:srgbClr val="48a4e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政策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肘形连接符 7"/>
            <p:cNvCxnSpPr>
              <a:endCxn id="334" idx="1"/>
            </p:cNvCxnSpPr>
            <p:nvPr/>
          </p:nvCxnSpPr>
          <p:spPr>
            <a:xfrm flipH="1" flipV="1" rot="5400000">
              <a:off x="646920" y="2844720"/>
              <a:ext cx="1459440" cy="216360"/>
            </a:xfrm>
            <a:prstGeom prst="bentConnector2">
              <a:avLst/>
            </a:prstGeom>
            <a:ln w="9360">
              <a:solidFill>
                <a:srgbClr val="48a4e9"/>
              </a:solidFill>
              <a:miter/>
            </a:ln>
          </p:spPr>
        </p:cxnSp>
        <p:cxnSp>
          <p:nvCxnSpPr>
            <p:cNvPr id="337" name="肘形连接符 8"/>
            <p:cNvCxnSpPr/>
            <p:nvPr/>
          </p:nvCxnSpPr>
          <p:spPr>
            <a:xfrm flipV="1" rot="10800000">
              <a:off x="899280" y="3696120"/>
              <a:ext cx="586440" cy="6840"/>
            </a:xfrm>
            <a:prstGeom prst="bentConnector3">
              <a:avLst>
                <a:gd name="adj1" fmla="val 34950"/>
              </a:avLst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38" name="矩形 9"/>
            <p:cNvSpPr/>
            <p:nvPr/>
          </p:nvSpPr>
          <p:spPr>
            <a:xfrm>
              <a:off x="3463920" y="1798560"/>
              <a:ext cx="5467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贫困人口和贫困村规模及比例、贫困深度等反映贫困的客观指标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0"/>
            <p:cNvSpPr/>
            <p:nvPr/>
          </p:nvSpPr>
          <p:spPr>
            <a:xfrm>
              <a:off x="1485720" y="3873600"/>
              <a:ext cx="1731960" cy="850680"/>
            </a:xfrm>
            <a:prstGeom prst="rect">
              <a:avLst/>
            </a:prstGeom>
            <a:solidFill>
              <a:srgbClr val="b2d0f3"/>
            </a:solidFill>
            <a:ln w="25560">
              <a:solidFill>
                <a:srgbClr val="8298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脱贫成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0" name="肘形连接符 11"/>
            <p:cNvCxnSpPr>
              <a:endCxn id="339" idx="1"/>
            </p:cNvCxnSpPr>
            <p:nvPr/>
          </p:nvCxnSpPr>
          <p:spPr>
            <a:xfrm flipH="1" rot="16200000">
              <a:off x="500400" y="3314520"/>
              <a:ext cx="1753200" cy="216360"/>
            </a:xfrm>
            <a:prstGeom prst="bentConnector2">
              <a:avLst/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41" name="矩形 13"/>
            <p:cNvSpPr/>
            <p:nvPr/>
          </p:nvSpPr>
          <p:spPr>
            <a:xfrm>
              <a:off x="1463400" y="4816440"/>
              <a:ext cx="1730160" cy="8506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巩固成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2" name="肘形连接符 14"/>
            <p:cNvCxnSpPr/>
            <p:nvPr/>
          </p:nvCxnSpPr>
          <p:spPr>
            <a:xfrm flipH="1" rot="16200000">
              <a:off x="343080" y="4183200"/>
              <a:ext cx="2042280" cy="189360"/>
            </a:xfrm>
            <a:prstGeom prst="bentConnector3">
              <a:avLst>
                <a:gd name="adj1" fmla="val 100405"/>
              </a:avLst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43" name="直接连接符 15"/>
            <p:cNvSpPr/>
            <p:nvPr/>
          </p:nvSpPr>
          <p:spPr>
            <a:xfrm>
              <a:off x="3463920" y="5684760"/>
              <a:ext cx="548316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矩形 39"/>
          <p:cNvSpPr/>
          <p:nvPr/>
        </p:nvSpPr>
        <p:spPr>
          <a:xfrm>
            <a:off x="3429000" y="2970360"/>
            <a:ext cx="6207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扶贫开发政策、年度脱贫任务等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0"/>
          <p:cNvSpPr/>
          <p:nvPr/>
        </p:nvSpPr>
        <p:spPr>
          <a:xfrm>
            <a:off x="3429000" y="3705120"/>
            <a:ext cx="552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扶贫开发工作成效考核结果、财政专项扶贫资金绩效评价结果等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8"/>
          <p:cNvSpPr/>
          <p:nvPr/>
        </p:nvSpPr>
        <p:spPr>
          <a:xfrm>
            <a:off x="304920" y="2332080"/>
            <a:ext cx="811080" cy="2987640"/>
          </a:xfrm>
          <a:prstGeom prst="rect">
            <a:avLst/>
          </a:prstGeom>
          <a:solidFill>
            <a:srgbClr val="3b79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因素法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基数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3"/>
          <p:cNvSpPr/>
          <p:nvPr/>
        </p:nvSpPr>
        <p:spPr>
          <a:xfrm>
            <a:off x="3508200" y="4784760"/>
            <a:ext cx="395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已脱贫摘帽区县减少返贫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建立扶贫开发长效机制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分配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直接连接符 21"/>
          <p:cNvSpPr/>
          <p:nvPr/>
        </p:nvSpPr>
        <p:spPr>
          <a:xfrm>
            <a:off x="3429000" y="469440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2"/>
          <p:cNvSpPr/>
          <p:nvPr/>
        </p:nvSpPr>
        <p:spPr>
          <a:xfrm>
            <a:off x="3429000" y="362736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23"/>
          <p:cNvSpPr/>
          <p:nvPr/>
        </p:nvSpPr>
        <p:spPr>
          <a:xfrm>
            <a:off x="3429000" y="274320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2"/>
          <p:cNvGrpSpPr/>
          <p:nvPr/>
        </p:nvGrpSpPr>
        <p:grpSpPr>
          <a:xfrm>
            <a:off x="990720" y="2057400"/>
            <a:ext cx="7016760" cy="3278160"/>
            <a:chOff x="990720" y="2057400"/>
            <a:chExt cx="7016760" cy="3278160"/>
          </a:xfrm>
        </p:grpSpPr>
        <p:sp>
          <p:nvSpPr>
            <p:cNvPr id="353" name="AutoShape 3"/>
            <p:cNvSpPr/>
            <p:nvPr/>
          </p:nvSpPr>
          <p:spPr>
            <a:xfrm>
              <a:off x="2976840" y="279396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4"/>
            <p:cNvSpPr/>
            <p:nvPr/>
          </p:nvSpPr>
          <p:spPr>
            <a:xfrm>
              <a:off x="5491440" y="279396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"/>
            <p:cNvSpPr/>
            <p:nvPr/>
          </p:nvSpPr>
          <p:spPr>
            <a:xfrm>
              <a:off x="60213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"/>
            <p:cNvSpPr/>
            <p:nvPr/>
          </p:nvSpPr>
          <p:spPr>
            <a:xfrm>
              <a:off x="60213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"/>
            <p:cNvSpPr/>
            <p:nvPr/>
          </p:nvSpPr>
          <p:spPr>
            <a:xfrm>
              <a:off x="6151680" y="21942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8"/>
            <p:cNvSpPr/>
            <p:nvPr/>
          </p:nvSpPr>
          <p:spPr>
            <a:xfrm>
              <a:off x="6180120" y="220356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9"/>
            <p:cNvSpPr/>
            <p:nvPr/>
          </p:nvSpPr>
          <p:spPr>
            <a:xfrm>
              <a:off x="6243840" y="227988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"/>
            <p:cNvSpPr/>
            <p:nvPr/>
          </p:nvSpPr>
          <p:spPr>
            <a:xfrm>
              <a:off x="990720" y="20574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5a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"/>
            <p:cNvSpPr/>
            <p:nvPr/>
          </p:nvSpPr>
          <p:spPr>
            <a:xfrm>
              <a:off x="990720" y="20574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855ad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2"/>
            <p:cNvSpPr/>
            <p:nvPr/>
          </p:nvSpPr>
          <p:spPr>
            <a:xfrm>
              <a:off x="1121040" y="218772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83176"/>
                </a:gs>
                <a:gs pos="50000">
                  <a:srgbClr val="855ada"/>
                </a:gs>
                <a:gs pos="100000">
                  <a:srgbClr val="4831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3"/>
            <p:cNvSpPr/>
            <p:nvPr/>
          </p:nvSpPr>
          <p:spPr>
            <a:xfrm>
              <a:off x="1122480" y="219096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4398a"/>
                </a:gs>
                <a:gs pos="100000">
                  <a:srgbClr val="855ad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4"/>
            <p:cNvSpPr/>
            <p:nvPr/>
          </p:nvSpPr>
          <p:spPr>
            <a:xfrm>
              <a:off x="1206720" y="22748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5"/>
            <p:cNvGrpSpPr/>
            <p:nvPr/>
          </p:nvGrpSpPr>
          <p:grpSpPr>
            <a:xfrm>
              <a:off x="1231920" y="2297160"/>
              <a:ext cx="1503360" cy="1511280"/>
              <a:chOff x="1231920" y="2297160"/>
              <a:chExt cx="1503360" cy="1511280"/>
            </a:xfrm>
          </p:grpSpPr>
          <p:sp>
            <p:nvSpPr>
              <p:cNvPr id="366" name="Oval 16"/>
              <p:cNvSpPr/>
              <p:nvPr/>
            </p:nvSpPr>
            <p:spPr>
              <a:xfrm>
                <a:off x="1231920" y="229716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7"/>
              <p:cNvSpPr/>
              <p:nvPr/>
            </p:nvSpPr>
            <p:spPr>
              <a:xfrm>
                <a:off x="1250640" y="230544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8"/>
              <p:cNvSpPr/>
              <p:nvPr/>
            </p:nvSpPr>
            <p:spPr>
              <a:xfrm>
                <a:off x="1266480" y="231984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9"/>
              <p:cNvSpPr/>
              <p:nvPr/>
            </p:nvSpPr>
            <p:spPr>
              <a:xfrm>
                <a:off x="1348200" y="235872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Oval 20"/>
            <p:cNvSpPr/>
            <p:nvPr/>
          </p:nvSpPr>
          <p:spPr>
            <a:xfrm>
              <a:off x="35067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ea7e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1"/>
            <p:cNvSpPr/>
            <p:nvPr/>
          </p:nvSpPr>
          <p:spPr>
            <a:xfrm>
              <a:off x="35067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4ea7ea">
                    <a:alpha val="32156"/>
                  </a:srgbClr>
                </a:gs>
                <a:gs pos="100000">
                  <a:srgbClr val="244d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2"/>
            <p:cNvSpPr/>
            <p:nvPr/>
          </p:nvSpPr>
          <p:spPr>
            <a:xfrm>
              <a:off x="3637080" y="21942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a5a7f"/>
                </a:gs>
                <a:gs pos="50000">
                  <a:srgbClr val="4ea7ea"/>
                </a:gs>
                <a:gs pos="100000">
                  <a:srgbClr val="2a5a7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3"/>
            <p:cNvSpPr/>
            <p:nvPr/>
          </p:nvSpPr>
          <p:spPr>
            <a:xfrm>
              <a:off x="3638520" y="219708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326a95"/>
                </a:gs>
                <a:gs pos="100000">
                  <a:srgbClr val="4ea7e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4"/>
            <p:cNvSpPr/>
            <p:nvPr/>
          </p:nvSpPr>
          <p:spPr>
            <a:xfrm>
              <a:off x="3722760" y="227988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5"/>
            <p:cNvGrpSpPr/>
            <p:nvPr/>
          </p:nvGrpSpPr>
          <p:grpSpPr>
            <a:xfrm>
              <a:off x="3748320" y="2297160"/>
              <a:ext cx="1503360" cy="1511280"/>
              <a:chOff x="3748320" y="2297160"/>
              <a:chExt cx="1503360" cy="1511280"/>
            </a:xfrm>
          </p:grpSpPr>
          <p:sp>
            <p:nvSpPr>
              <p:cNvPr id="376" name="Oval 26"/>
              <p:cNvSpPr/>
              <p:nvPr/>
            </p:nvSpPr>
            <p:spPr>
              <a:xfrm>
                <a:off x="3748320" y="229716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27"/>
              <p:cNvSpPr/>
              <p:nvPr/>
            </p:nvSpPr>
            <p:spPr>
              <a:xfrm>
                <a:off x="3767040" y="230544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28"/>
              <p:cNvSpPr/>
              <p:nvPr/>
            </p:nvSpPr>
            <p:spPr>
              <a:xfrm>
                <a:off x="3782880" y="231984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29"/>
              <p:cNvSpPr/>
              <p:nvPr/>
            </p:nvSpPr>
            <p:spPr>
              <a:xfrm>
                <a:off x="3864600" y="235872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0"/>
            <p:cNvGrpSpPr/>
            <p:nvPr/>
          </p:nvGrpSpPr>
          <p:grpSpPr>
            <a:xfrm>
              <a:off x="6272280" y="2297160"/>
              <a:ext cx="1505160" cy="1511280"/>
              <a:chOff x="6272280" y="2297160"/>
              <a:chExt cx="1505160" cy="1511280"/>
            </a:xfrm>
          </p:grpSpPr>
          <p:sp>
            <p:nvSpPr>
              <p:cNvPr id="381" name="Oval 31"/>
              <p:cNvSpPr/>
              <p:nvPr/>
            </p:nvSpPr>
            <p:spPr>
              <a:xfrm>
                <a:off x="6272280" y="229716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32"/>
              <p:cNvSpPr/>
              <p:nvPr/>
            </p:nvSpPr>
            <p:spPr>
              <a:xfrm>
                <a:off x="6291360" y="230544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33"/>
              <p:cNvSpPr/>
              <p:nvPr/>
            </p:nvSpPr>
            <p:spPr>
              <a:xfrm>
                <a:off x="6306840" y="231984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34"/>
              <p:cNvSpPr/>
              <p:nvPr/>
            </p:nvSpPr>
            <p:spPr>
              <a:xfrm>
                <a:off x="6388920" y="235872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AutoShape 35"/>
            <p:cNvSpPr/>
            <p:nvPr/>
          </p:nvSpPr>
          <p:spPr>
            <a:xfrm>
              <a:off x="990720" y="4419720"/>
              <a:ext cx="2062080" cy="91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前批：上年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1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二批：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6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6"/>
            <p:cNvSpPr/>
            <p:nvPr/>
          </p:nvSpPr>
          <p:spPr>
            <a:xfrm>
              <a:off x="3549600" y="4419720"/>
              <a:ext cx="1890720" cy="91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区县人大批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算后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月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达具体项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7"/>
            <p:cNvSpPr/>
            <p:nvPr/>
          </p:nvSpPr>
          <p:spPr>
            <a:xfrm>
              <a:off x="6113520" y="4419720"/>
              <a:ext cx="1890720" cy="9158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工程类：分三批拨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到户类：及时按程序补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8"/>
            <p:cNvSpPr/>
            <p:nvPr/>
          </p:nvSpPr>
          <p:spPr>
            <a:xfrm>
              <a:off x="1530000" y="26672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市级财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部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9"/>
            <p:cNvSpPr/>
            <p:nvPr/>
          </p:nvSpPr>
          <p:spPr>
            <a:xfrm>
              <a:off x="4017600" y="26672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区县财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部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0"/>
            <p:cNvSpPr/>
            <p:nvPr/>
          </p:nvSpPr>
          <p:spPr>
            <a:xfrm>
              <a:off x="6481800" y="2667240"/>
              <a:ext cx="10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乡镇政府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施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下达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3"/>
          <p:cNvGrpSpPr/>
          <p:nvPr/>
        </p:nvGrpSpPr>
        <p:grpSpPr>
          <a:xfrm>
            <a:off x="762120" y="1447920"/>
            <a:ext cx="7757640" cy="3257280"/>
            <a:chOff x="762120" y="1447920"/>
            <a:chExt cx="7757640" cy="3257280"/>
          </a:xfrm>
        </p:grpSpPr>
        <p:sp>
          <p:nvSpPr>
            <p:cNvPr id="393" name="AutoShape 4"/>
            <p:cNvSpPr/>
            <p:nvPr/>
          </p:nvSpPr>
          <p:spPr>
            <a:xfrm>
              <a:off x="762120" y="1447920"/>
              <a:ext cx="3929040" cy="3257280"/>
            </a:xfrm>
            <a:custGeom>
              <a:avLst/>
              <a:gdLst>
                <a:gd name="textAreaLeft" fmla="*/ 575640 w 3929040"/>
                <a:gd name="textAreaRight" fmla="*/ 3353400 w 3929040"/>
                <a:gd name="textAreaTop" fmla="*/ 477360 h 3257280"/>
                <a:gd name="textAreaBottom" fmla="*/ 2779920 h 325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"/>
            <p:cNvSpPr/>
            <p:nvPr/>
          </p:nvSpPr>
          <p:spPr>
            <a:xfrm>
              <a:off x="1074600" y="1706760"/>
              <a:ext cx="3279960" cy="271908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"/>
            <p:cNvSpPr/>
            <p:nvPr/>
          </p:nvSpPr>
          <p:spPr>
            <a:xfrm>
              <a:off x="3288600" y="1447920"/>
              <a:ext cx="4763880" cy="706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培育和壮大贫困地区特色产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7"/>
            <p:cNvSpPr/>
            <p:nvPr/>
          </p:nvSpPr>
          <p:spPr>
            <a:xfrm>
              <a:off x="3792960" y="2224800"/>
              <a:ext cx="4726800" cy="68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改善贫困群众基本生产生活设施条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8"/>
            <p:cNvSpPr/>
            <p:nvPr/>
          </p:nvSpPr>
          <p:spPr>
            <a:xfrm>
              <a:off x="3792960" y="3028680"/>
              <a:ext cx="4726800" cy="720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增强贫困人口自我发展和抵御风险能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9"/>
            <p:cNvSpPr/>
            <p:nvPr/>
          </p:nvSpPr>
          <p:spPr>
            <a:xfrm>
              <a:off x="3505320" y="3862080"/>
              <a:ext cx="4547520" cy="72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与脱贫攻坚资金项目管理相关经费支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1"/>
            <p:cNvSpPr/>
            <p:nvPr/>
          </p:nvSpPr>
          <p:spPr>
            <a:xfrm>
              <a:off x="1994400" y="2505240"/>
              <a:ext cx="1278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扶贫资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使用范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矩形 12"/>
          <p:cNvSpPr/>
          <p:nvPr/>
        </p:nvSpPr>
        <p:spPr>
          <a:xfrm>
            <a:off x="762120" y="4944960"/>
            <a:ext cx="7805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需要特别指出是的：中央资金不得用于教育、科学、文化、卫生、医疗、社保等社会事业支出（“雨露计划”中农村贫困家庭子女初中、高中毕业后接受中高等职业教育，对家庭给予扶贫助学补助的事项除外）。市级和区县资金可围绕“两不愁三保障”的需要，用于教育、医疗、社保等支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使用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1600200" y="914400"/>
            <a:ext cx="63244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政事业单位基本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工具及通讯设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奖金、津贴和福利补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补企业亏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建楼、堂、馆、所及贫困农场、林场棚户改造以外的职工住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补预算支出缺口和偿还债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中型基本建设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基础设施建设和城市扶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与脱贫攻坚无关的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“九个严禁”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建设的基本流程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AutoShape 3"/>
          <p:cNvSpPr/>
          <p:nvPr/>
        </p:nvSpPr>
        <p:spPr>
          <a:xfrm>
            <a:off x="6380280" y="33577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4684680" y="33577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3002040" y="3357720"/>
            <a:ext cx="1563480" cy="273816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25">
                <a:moveTo>
                  <a:pt x="2969" y="0"/>
                </a:moveTo>
                <a:arcTo wR="2969" hR="2969" stAng="16200000" swAng="-5400000"/>
                <a:lnTo>
                  <a:pt x="0" y="34856"/>
                </a:lnTo>
                <a:arcTo wR="2969" hR="2969" stAng="10800000" swAng="-5400000"/>
                <a:lnTo>
                  <a:pt x="18631" y="3782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1295280" y="335772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9" y="0"/>
                </a:moveTo>
                <a:arcTo wR="2969" hR="2969" stAng="16200000" swAng="-5400000"/>
                <a:lnTo>
                  <a:pt x="0" y="33512"/>
                </a:lnTo>
                <a:arcTo wR="2969" hR="2969" stAng="10800000" swAng="-5400000"/>
                <a:lnTo>
                  <a:pt x="18631" y="3648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7"/>
          <p:cNvGrpSpPr/>
          <p:nvPr/>
        </p:nvGrpSpPr>
        <p:grpSpPr>
          <a:xfrm>
            <a:off x="1356120" y="1787400"/>
            <a:ext cx="6215040" cy="1324440"/>
            <a:chOff x="1356120" y="1787400"/>
            <a:chExt cx="6215040" cy="1324440"/>
          </a:xfrm>
        </p:grpSpPr>
        <p:sp>
          <p:nvSpPr>
            <p:cNvPr id="410" name="Rectangle 8"/>
            <p:cNvSpPr/>
            <p:nvPr/>
          </p:nvSpPr>
          <p:spPr>
            <a:xfrm rot="3418800">
              <a:off x="1563840" y="19951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9"/>
            <p:cNvGrpSpPr/>
            <p:nvPr/>
          </p:nvGrpSpPr>
          <p:grpSpPr>
            <a:xfrm>
              <a:off x="2486880" y="2168280"/>
              <a:ext cx="901440" cy="124200"/>
              <a:chOff x="2486880" y="2168280"/>
              <a:chExt cx="901440" cy="124200"/>
            </a:xfrm>
          </p:grpSpPr>
          <p:sp>
            <p:nvSpPr>
              <p:cNvPr id="412" name="Oval 10"/>
              <p:cNvSpPr/>
              <p:nvPr/>
            </p:nvSpPr>
            <p:spPr>
              <a:xfrm>
                <a:off x="2486880" y="21682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11"/>
              <p:cNvSpPr/>
              <p:nvPr/>
            </p:nvSpPr>
            <p:spPr>
              <a:xfrm>
                <a:off x="2573280" y="21690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12"/>
              <p:cNvSpPr/>
              <p:nvPr/>
            </p:nvSpPr>
            <p:spPr>
              <a:xfrm>
                <a:off x="3251520" y="216972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13"/>
              <p:cNvSpPr/>
              <p:nvPr/>
            </p:nvSpPr>
            <p:spPr>
              <a:xfrm>
                <a:off x="3324960" y="22096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Rectangle 14"/>
            <p:cNvSpPr/>
            <p:nvPr/>
          </p:nvSpPr>
          <p:spPr>
            <a:xfrm rot="3418800">
              <a:off x="3228480" y="19328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15"/>
            <p:cNvGrpSpPr/>
            <p:nvPr/>
          </p:nvGrpSpPr>
          <p:grpSpPr>
            <a:xfrm>
              <a:off x="4151520" y="2168280"/>
              <a:ext cx="901440" cy="124200"/>
              <a:chOff x="4151520" y="2168280"/>
              <a:chExt cx="901440" cy="124200"/>
            </a:xfrm>
          </p:grpSpPr>
          <p:sp>
            <p:nvSpPr>
              <p:cNvPr id="418" name="Oval 16"/>
              <p:cNvSpPr/>
              <p:nvPr/>
            </p:nvSpPr>
            <p:spPr>
              <a:xfrm>
                <a:off x="4151520" y="21682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7"/>
              <p:cNvSpPr/>
              <p:nvPr/>
            </p:nvSpPr>
            <p:spPr>
              <a:xfrm>
                <a:off x="4237920" y="21690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4916160" y="216972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9"/>
              <p:cNvSpPr/>
              <p:nvPr/>
            </p:nvSpPr>
            <p:spPr>
              <a:xfrm>
                <a:off x="4989600" y="22096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Rectangle 20"/>
            <p:cNvSpPr/>
            <p:nvPr/>
          </p:nvSpPr>
          <p:spPr>
            <a:xfrm rot="3418800">
              <a:off x="4824360" y="1935000"/>
              <a:ext cx="873000" cy="9669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21"/>
            <p:cNvGrpSpPr/>
            <p:nvPr/>
          </p:nvGrpSpPr>
          <p:grpSpPr>
            <a:xfrm>
              <a:off x="5816520" y="2168280"/>
              <a:ext cx="1178280" cy="124200"/>
              <a:chOff x="5816520" y="2168280"/>
              <a:chExt cx="1178280" cy="124200"/>
            </a:xfrm>
          </p:grpSpPr>
          <p:sp>
            <p:nvSpPr>
              <p:cNvPr id="424" name="Oval 22"/>
              <p:cNvSpPr/>
              <p:nvPr/>
            </p:nvSpPr>
            <p:spPr>
              <a:xfrm>
                <a:off x="5816520" y="21682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23"/>
              <p:cNvSpPr/>
              <p:nvPr/>
            </p:nvSpPr>
            <p:spPr>
              <a:xfrm>
                <a:off x="5929560" y="21690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24"/>
              <p:cNvSpPr/>
              <p:nvPr/>
            </p:nvSpPr>
            <p:spPr>
              <a:xfrm>
                <a:off x="6816240" y="216972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5"/>
              <p:cNvSpPr/>
              <p:nvPr/>
            </p:nvSpPr>
            <p:spPr>
              <a:xfrm>
                <a:off x="6912360" y="220968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Rectangle 26"/>
            <p:cNvSpPr/>
            <p:nvPr/>
          </p:nvSpPr>
          <p:spPr>
            <a:xfrm rot="3418800">
              <a:off x="6488640" y="19328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27"/>
          <p:cNvSpPr/>
          <p:nvPr/>
        </p:nvSpPr>
        <p:spPr>
          <a:xfrm>
            <a:off x="170388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村级申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8"/>
          <p:cNvSpPr/>
          <p:nvPr/>
        </p:nvSpPr>
        <p:spPr>
          <a:xfrm>
            <a:off x="328824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乡镇审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501516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区县审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0"/>
          <p:cNvSpPr/>
          <p:nvPr/>
        </p:nvSpPr>
        <p:spPr>
          <a:xfrm>
            <a:off x="6599520" y="228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市级备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2"/>
          <p:cNvSpPr/>
          <p:nvPr/>
        </p:nvSpPr>
        <p:spPr>
          <a:xfrm>
            <a:off x="3095640" y="3497400"/>
            <a:ext cx="145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根据脱贫攻坚需要做好项目综合排序，经乡镇政务公开栏公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天后，报区县行业主管部门和区县扶贫开发领导小组办公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3"/>
          <p:cNvSpPr/>
          <p:nvPr/>
        </p:nvSpPr>
        <p:spPr>
          <a:xfrm>
            <a:off x="4680000" y="3637080"/>
            <a:ext cx="17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区县行业主管部门论证，扶贫开发领导小组办公室提出项目库储备规模、备选项目、实施时序。区县扶贫开发领导小组审定，并公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4"/>
          <p:cNvSpPr/>
          <p:nvPr/>
        </p:nvSpPr>
        <p:spPr>
          <a:xfrm>
            <a:off x="6480000" y="3666960"/>
            <a:ext cx="15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报市扶贫开发领导小组办公室和市级行业主管部门备案。对不符合要求的项目库内容，限期修订后重新报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1"/>
          <p:cNvSpPr/>
          <p:nvPr/>
        </p:nvSpPr>
        <p:spPr>
          <a:xfrm>
            <a:off x="1335240" y="3637080"/>
            <a:ext cx="1616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经村两委会或村民代表大会讨论，广泛征求群众意见后，提出立项申请，形成村级申报项目清单，并在村务公开栏内公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天后上报乡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建设的基本要件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38040" y="1600200"/>
          <a:ext cx="8425080" cy="4616280"/>
        </p:xfrm>
        <a:graphic>
          <a:graphicData uri="http://schemas.openxmlformats.org/drawingml/2006/table">
            <a:tbl>
              <a:tblPr/>
              <a:tblGrid>
                <a:gridCol w="324000"/>
                <a:gridCol w="393480"/>
                <a:gridCol w="387360"/>
                <a:gridCol w="252720"/>
                <a:gridCol w="317520"/>
                <a:gridCol w="323640"/>
                <a:gridCol w="390600"/>
                <a:gridCol w="401760"/>
                <a:gridCol w="1242720"/>
                <a:gridCol w="528840"/>
                <a:gridCol w="409680"/>
                <a:gridCol w="336240"/>
                <a:gridCol w="336600"/>
                <a:gridCol w="552600"/>
                <a:gridCol w="906480"/>
                <a:gridCol w="714240"/>
                <a:gridCol w="606600"/>
              </a:tblGrid>
              <a:tr h="31104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序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设性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施地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间进度安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责任单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设任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资金规模和筹资方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受益对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绩效目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群众参与和带贫减贫机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前期工作进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施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完工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计（万元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财政资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融资资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群众自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育资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到人到户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续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区教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对全区在校贫困学生落实教育资助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在校贫困学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保证全区贫困家庭学生都上得起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通过扶志扶智摆脱贫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已出台相关政策，并已开展这项工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1981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双泉乡苍蒲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中药材基地建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产业发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新建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双泉乡苍蒲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县农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流转土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；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金荞麦种根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吴茱萸种苗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前胡种子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菊花种苗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牛蒡子种子。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购买肥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吨，购买农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件。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对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土地进行整治、培肥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经营主体，项目区群众，贫困户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启动后，整治土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。预计每亩收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元左右，总计收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.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。项目竣工验收合格后，项目资金拨付时，将项目资金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%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要打入扶贫账户，用于县上统一解决兜底贫困户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土地租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务工薪金；与贫困农户建立利益联结机制分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方正仿宋_GBK"/>
                          <a:ea typeface="方正仿宋_GBK"/>
                        </a:rPr>
                        <a:t>已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签订部分土地协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1225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扶贫小额到户贷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到人到户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续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区金融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投入扶贫小额信贷风险补偿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，扶贫小额信贷保证金保险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，撬动金融贷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投入产业扶贫领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建档立卡扶贫对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使全区有产业发展能力和意愿贫困户稳定脱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通过提供产业发展启动资金贷款帮助贫困户发展产业脱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已出台相关政策，并建立了扶贫小额信贷风险补偿金，正在开展这项工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的负面清单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矩形 1"/>
          <p:cNvSpPr/>
          <p:nvPr/>
        </p:nvSpPr>
        <p:spPr>
          <a:xfrm>
            <a:off x="1143000" y="15606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大中型基本建设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城市基础设施和城市扶贫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工业以及其它打着扶贫旗号与脱贫攻坚无关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盲目提高脱贫标准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搞形象工程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与减贫目标不直接、与贫困户自身发展不密切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群众不知晓、未进行充分论证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未建立产业带贫减贫机制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未编制绩效目标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对生态环境保护造成负面影响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违法违规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13"/>
          <p:cNvSpPr/>
          <p:nvPr/>
        </p:nvSpPr>
        <p:spPr>
          <a:xfrm>
            <a:off x="2143080" y="1476360"/>
            <a:ext cx="4757760" cy="434340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2360520" y="1728720"/>
            <a:ext cx="4199040" cy="390708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2681280" y="2117880"/>
            <a:ext cx="3576600" cy="33271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 rot="9043800">
            <a:off x="1369800" y="4212720"/>
            <a:ext cx="2665440" cy="201168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011680"/>
              <a:gd name="textAreaBottom" fmla="*/ 2012040 h 201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9" y="0"/>
                </a:lnTo>
                <a:lnTo>
                  <a:pt x="21600" y="10800"/>
                </a:lnTo>
                <a:lnTo>
                  <a:pt x="16929" y="21600"/>
                </a:lnTo>
                <a:lnTo>
                  <a:pt x="0" y="21600"/>
                </a:lnTo>
                <a:lnTo>
                  <a:pt x="4671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 rot="16200000">
            <a:off x="3279960" y="1506600"/>
            <a:ext cx="2349360" cy="2232000"/>
          </a:xfrm>
          <a:custGeom>
            <a:avLst/>
            <a:gdLst>
              <a:gd name="textAreaLeft" fmla="*/ 0 w 2349360"/>
              <a:gd name="textAreaRight" fmla="*/ 2349360 w 23493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21" y="0"/>
                </a:lnTo>
                <a:lnTo>
                  <a:pt x="21600" y="10800"/>
                </a:lnTo>
                <a:lnTo>
                  <a:pt x="15721" y="21600"/>
                </a:lnTo>
                <a:lnTo>
                  <a:pt x="0" y="21600"/>
                </a:lnTo>
                <a:lnTo>
                  <a:pt x="5879" y="10800"/>
                </a:lnTo>
                <a:close/>
              </a:path>
            </a:pathLst>
          </a:custGeom>
          <a:solidFill>
            <a:srgbClr val="4ea7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 rot="1788000">
            <a:off x="4824360" y="4278240"/>
            <a:ext cx="2664000" cy="20131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013120"/>
              <a:gd name="textAreaBottom" fmla="*/ 2013480 h 201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5" y="0"/>
                </a:lnTo>
                <a:lnTo>
                  <a:pt x="21600" y="10800"/>
                </a:lnTo>
                <a:lnTo>
                  <a:pt x="16925" y="21600"/>
                </a:lnTo>
                <a:lnTo>
                  <a:pt x="0" y="21600"/>
                </a:lnTo>
                <a:lnTo>
                  <a:pt x="4675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429000" y="3930480"/>
            <a:ext cx="20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物质贫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2776680" y="1747800"/>
            <a:ext cx="336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收入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缺少稳定的收入来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如实反映物质生活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数据来源更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1327320" y="4464000"/>
            <a:ext cx="224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消费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消费水平低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消费标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相对稳定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可靠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143680" y="4486320"/>
            <a:ext cx="23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资产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资产的积累和投资有利于稳定脱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更持续稳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更具根本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137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全面清理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矩形 1"/>
          <p:cNvSpPr/>
          <p:nvPr/>
        </p:nvSpPr>
        <p:spPr>
          <a:xfrm>
            <a:off x="533520" y="1295280"/>
            <a:ext cx="86104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重点围绕</a:t>
            </a:r>
            <a:r>
              <a:rPr b="1" lang="zh-CN" sz="3200" spc="-1" strike="noStrike">
                <a:solidFill>
                  <a:srgbClr val="ff0000"/>
                </a:solidFill>
                <a:latin typeface="方正黑体_GBK"/>
                <a:ea typeface="方正黑体_GBK"/>
              </a:rPr>
              <a:t>“十看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一看项目是否紧紧围绕脱贫攻坚目标任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二看项目是否违反负面清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三看年度计划是否与资金相匹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四看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项目计划是否出现明显减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五看项目选择是否坚持自下而上、群众参与的程序进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六看项目是否逐级公示公告公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七看入库项目与脱贫、带贫、减贫、益贫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八看项目前期工作是否推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九看项目审批程序是否规范高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十看项目是否坚持专家论证、行业部门评审、区县扶贫开发领导小组审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建设的基本流程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右箭头 3"/>
          <p:cNvSpPr/>
          <p:nvPr/>
        </p:nvSpPr>
        <p:spPr>
          <a:xfrm>
            <a:off x="2705040" y="1965240"/>
            <a:ext cx="142236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区县下达实施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右箭头 4"/>
          <p:cNvSpPr/>
          <p:nvPr/>
        </p:nvSpPr>
        <p:spPr>
          <a:xfrm>
            <a:off x="4219560" y="1965240"/>
            <a:ext cx="129060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招标投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右箭头 5"/>
          <p:cNvSpPr/>
          <p:nvPr/>
        </p:nvSpPr>
        <p:spPr>
          <a:xfrm>
            <a:off x="5586480" y="1965240"/>
            <a:ext cx="110808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组织项目实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右箭头 6"/>
          <p:cNvSpPr/>
          <p:nvPr/>
        </p:nvSpPr>
        <p:spPr>
          <a:xfrm>
            <a:off x="6783480" y="1965240"/>
            <a:ext cx="136980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业主自查申请验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右箭头 7"/>
          <p:cNvSpPr/>
          <p:nvPr/>
        </p:nvSpPr>
        <p:spPr>
          <a:xfrm rot="5400000">
            <a:off x="7711560" y="3238200"/>
            <a:ext cx="512640" cy="45900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左箭头 8"/>
          <p:cNvSpPr/>
          <p:nvPr/>
        </p:nvSpPr>
        <p:spPr>
          <a:xfrm>
            <a:off x="6424560" y="3467160"/>
            <a:ext cx="159696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行业主管部门检查验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左箭头 9"/>
          <p:cNvSpPr/>
          <p:nvPr/>
        </p:nvSpPr>
        <p:spPr>
          <a:xfrm>
            <a:off x="4781520" y="3538440"/>
            <a:ext cx="1643040" cy="162396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市级相关部门抽查巡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左箭头 10"/>
          <p:cNvSpPr/>
          <p:nvPr/>
        </p:nvSpPr>
        <p:spPr>
          <a:xfrm>
            <a:off x="3376440" y="3538440"/>
            <a:ext cx="136872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资金拨付（分三段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左箭头 11"/>
          <p:cNvSpPr/>
          <p:nvPr/>
        </p:nvSpPr>
        <p:spPr>
          <a:xfrm>
            <a:off x="2066760" y="3557520"/>
            <a:ext cx="130968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年后质量复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右箭头 12"/>
          <p:cNvSpPr/>
          <p:nvPr/>
        </p:nvSpPr>
        <p:spPr>
          <a:xfrm>
            <a:off x="1325520" y="1941480"/>
            <a:ext cx="135432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项目库中择优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左箭头 13"/>
          <p:cNvSpPr/>
          <p:nvPr/>
        </p:nvSpPr>
        <p:spPr>
          <a:xfrm>
            <a:off x="663480" y="3543480"/>
            <a:ext cx="1403280" cy="1622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质量复查项目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标题 14"/>
          <p:cNvSpPr/>
          <p:nvPr/>
        </p:nvSpPr>
        <p:spPr>
          <a:xfrm>
            <a:off x="1617840" y="457200"/>
            <a:ext cx="61545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绩效考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原创设计师QQ598969553        _4"/>
          <p:cNvSpPr/>
          <p:nvPr/>
        </p:nvSpPr>
        <p:spPr>
          <a:xfrm>
            <a:off x="380880" y="3440160"/>
            <a:ext cx="17128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区县本级预算安排的财政专项扶贫资金的投入总量、增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原创设计师QQ598969553        _7"/>
          <p:cNvSpPr/>
          <p:nvPr/>
        </p:nvSpPr>
        <p:spPr>
          <a:xfrm>
            <a:off x="2235240" y="34480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中央、市级补助区县财政专项扶贫资金拨付的时间效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原创设计师QQ598969553        _10"/>
          <p:cNvSpPr/>
          <p:nvPr/>
        </p:nvSpPr>
        <p:spPr>
          <a:xfrm>
            <a:off x="3946680" y="34480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财政专项扶贫资金监管责任落实情况。包括信息公开和公示公告制度建设和执行、监督检查制度建设和执行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原创设计师QQ598969553        _13"/>
          <p:cNvSpPr/>
          <p:nvPr/>
        </p:nvSpPr>
        <p:spPr>
          <a:xfrm>
            <a:off x="5602320" y="34732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财政专项扶贫资金使用的效果。包括年度资金结转结余率、贫困人口减少、精准使用情况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原创设计师QQ598969553        _12" descr=""/>
          <p:cNvPicPr/>
          <p:nvPr/>
        </p:nvPicPr>
        <p:blipFill>
          <a:blip r:embed="rId1"/>
          <a:stretch/>
        </p:blipFill>
        <p:spPr>
          <a:xfrm>
            <a:off x="6718320" y="1547640"/>
            <a:ext cx="2230560" cy="2146320"/>
          </a:xfrm>
          <a:prstGeom prst="rect">
            <a:avLst/>
          </a:prstGeom>
          <a:ln w="0">
            <a:noFill/>
          </a:ln>
        </p:spPr>
      </p:pic>
      <p:sp>
        <p:nvSpPr>
          <p:cNvPr id="461" name="原创设计师QQ598969553        _13"/>
          <p:cNvSpPr/>
          <p:nvPr/>
        </p:nvSpPr>
        <p:spPr>
          <a:xfrm>
            <a:off x="7257960" y="3487680"/>
            <a:ext cx="1657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包括加分指标（机制创新）和减分指标（违规违纪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原创设计师QQ598969553        _3" descr=""/>
          <p:cNvPicPr/>
          <p:nvPr/>
        </p:nvPicPr>
        <p:blipFill>
          <a:blip r:embed="rId2"/>
          <a:stretch/>
        </p:blipFill>
        <p:spPr>
          <a:xfrm>
            <a:off x="30240" y="1560600"/>
            <a:ext cx="2236680" cy="2146320"/>
          </a:xfrm>
          <a:prstGeom prst="rect">
            <a:avLst/>
          </a:prstGeom>
          <a:ln w="0">
            <a:noFill/>
          </a:ln>
        </p:spPr>
      </p:pic>
      <p:pic>
        <p:nvPicPr>
          <p:cNvPr id="463" name="原创设计师QQ598969553        _6" descr=""/>
          <p:cNvPicPr/>
          <p:nvPr/>
        </p:nvPicPr>
        <p:blipFill>
          <a:blip r:embed="rId3"/>
          <a:stretch/>
        </p:blipFill>
        <p:spPr>
          <a:xfrm>
            <a:off x="1689120" y="1560600"/>
            <a:ext cx="2236680" cy="2146320"/>
          </a:xfrm>
          <a:prstGeom prst="rect">
            <a:avLst/>
          </a:prstGeom>
          <a:ln w="0">
            <a:noFill/>
          </a:ln>
        </p:spPr>
      </p:pic>
      <p:pic>
        <p:nvPicPr>
          <p:cNvPr id="464" name="原创设计师QQ598969553        _9" descr=""/>
          <p:cNvPicPr/>
          <p:nvPr/>
        </p:nvPicPr>
        <p:blipFill>
          <a:blip r:embed="rId4"/>
          <a:stretch/>
        </p:blipFill>
        <p:spPr>
          <a:xfrm>
            <a:off x="3419640" y="1560600"/>
            <a:ext cx="2232000" cy="2146320"/>
          </a:xfrm>
          <a:prstGeom prst="rect">
            <a:avLst/>
          </a:prstGeom>
          <a:ln w="0">
            <a:noFill/>
          </a:ln>
        </p:spPr>
      </p:pic>
      <p:pic>
        <p:nvPicPr>
          <p:cNvPr id="465" name="原创设计师QQ598969553        _12" descr=""/>
          <p:cNvPicPr/>
          <p:nvPr/>
        </p:nvPicPr>
        <p:blipFill>
          <a:blip r:embed="rId5"/>
          <a:stretch/>
        </p:blipFill>
        <p:spPr>
          <a:xfrm>
            <a:off x="5102280" y="1560600"/>
            <a:ext cx="2232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矩形 18"/>
          <p:cNvSpPr/>
          <p:nvPr/>
        </p:nvSpPr>
        <p:spPr>
          <a:xfrm>
            <a:off x="687240" y="1930320"/>
            <a:ext cx="8380440" cy="3861000"/>
          </a:xfrm>
          <a:prstGeom prst="rect">
            <a:avLst/>
          </a:prstGeom>
          <a:noFill/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3"/>
          <p:cNvGrpSpPr/>
          <p:nvPr/>
        </p:nvGrpSpPr>
        <p:grpSpPr>
          <a:xfrm>
            <a:off x="304920" y="1562040"/>
            <a:ext cx="2403360" cy="571680"/>
            <a:chOff x="304920" y="1562040"/>
            <a:chExt cx="2403360" cy="571680"/>
          </a:xfrm>
        </p:grpSpPr>
        <p:sp>
          <p:nvSpPr>
            <p:cNvPr id="468" name="矩形 20"/>
            <p:cNvSpPr/>
            <p:nvPr/>
          </p:nvSpPr>
          <p:spPr>
            <a:xfrm>
              <a:off x="304920" y="1562040"/>
              <a:ext cx="2403360" cy="571680"/>
            </a:xfrm>
            <a:prstGeom prst="rect">
              <a:avLst/>
            </a:prstGeom>
            <a:solidFill>
              <a:srgbClr val="0a85ff"/>
            </a:solidFill>
            <a:ln w="1260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21"/>
            <p:cNvSpPr/>
            <p:nvPr/>
          </p:nvSpPr>
          <p:spPr>
            <a:xfrm>
              <a:off x="380880" y="160884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示公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矩形 2"/>
          <p:cNvSpPr/>
          <p:nvPr/>
        </p:nvSpPr>
        <p:spPr>
          <a:xfrm>
            <a:off x="576360" y="334656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式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新闻媒体（包括政府网站、单位网站、广播电视、微信公众号、报刊等）、政务公示栏（包括乡镇政务、村级村务）和项目公告牌等多种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8"/>
          <p:cNvSpPr/>
          <p:nvPr/>
        </p:nvSpPr>
        <p:spPr>
          <a:xfrm>
            <a:off x="576360" y="245916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脱贫攻坚规划、项目库、年度扶贫资金项目计划安排、扶贫资金使用结果，其他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9"/>
          <p:cNvSpPr/>
          <p:nvPr/>
        </p:nvSpPr>
        <p:spPr>
          <a:xfrm>
            <a:off x="576360" y="4678200"/>
            <a:ext cx="84294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区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内，乡镇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内进行公告公示。公告公示时间不得少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标题 14"/>
          <p:cNvSpPr/>
          <p:nvPr/>
        </p:nvSpPr>
        <p:spPr>
          <a:xfrm>
            <a:off x="1770120" y="380880"/>
            <a:ext cx="61545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的公示公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33360" y="503280"/>
            <a:ext cx="5862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监管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5" name="Group 19"/>
          <p:cNvGrpSpPr/>
          <p:nvPr/>
        </p:nvGrpSpPr>
        <p:grpSpPr>
          <a:xfrm>
            <a:off x="685800" y="1668600"/>
            <a:ext cx="7323480" cy="4690800"/>
            <a:chOff x="685800" y="1668600"/>
            <a:chExt cx="7323480" cy="4690800"/>
          </a:xfrm>
        </p:grpSpPr>
        <p:sp>
          <p:nvSpPr>
            <p:cNvPr id="476" name="Freeform 3"/>
            <p:cNvSpPr/>
            <p:nvPr/>
          </p:nvSpPr>
          <p:spPr>
            <a:xfrm rot="20241600">
              <a:off x="1414080" y="2801520"/>
              <a:ext cx="637380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4"/>
            <p:cNvSpPr/>
            <p:nvPr/>
          </p:nvSpPr>
          <p:spPr>
            <a:xfrm>
              <a:off x="3954960" y="2057400"/>
              <a:ext cx="1195200" cy="11019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5"/>
            <p:cNvSpPr/>
            <p:nvPr/>
          </p:nvSpPr>
          <p:spPr>
            <a:xfrm>
              <a:off x="1617120" y="3375000"/>
              <a:ext cx="1193760" cy="110196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6"/>
            <p:cNvSpPr/>
            <p:nvPr/>
          </p:nvSpPr>
          <p:spPr>
            <a:xfrm>
              <a:off x="2437200" y="4842000"/>
              <a:ext cx="119376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5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"/>
            <p:cNvSpPr/>
            <p:nvPr/>
          </p:nvSpPr>
          <p:spPr>
            <a:xfrm>
              <a:off x="5019480" y="4297320"/>
              <a:ext cx="1193400" cy="1101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6719400" y="2254320"/>
              <a:ext cx="112896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1881720" y="35816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群众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媒体监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0"/>
            <p:cNvSpPr/>
            <p:nvPr/>
          </p:nvSpPr>
          <p:spPr>
            <a:xfrm>
              <a:off x="4174920" y="22496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行业主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部门监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1"/>
            <p:cNvSpPr/>
            <p:nvPr/>
          </p:nvSpPr>
          <p:spPr>
            <a:xfrm>
              <a:off x="6866640" y="243864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财政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门监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2"/>
            <p:cNvSpPr/>
            <p:nvPr/>
          </p:nvSpPr>
          <p:spPr>
            <a:xfrm>
              <a:off x="5408640" y="44960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审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监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3"/>
            <p:cNvSpPr/>
            <p:nvPr/>
          </p:nvSpPr>
          <p:spPr>
            <a:xfrm>
              <a:off x="2785320" y="49928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纪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监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3529800" y="3657600"/>
              <a:ext cx="241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视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督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5"/>
            <p:cNvSpPr/>
            <p:nvPr/>
          </p:nvSpPr>
          <p:spPr>
            <a:xfrm>
              <a:off x="2679840" y="2452680"/>
              <a:ext cx="170172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AutoShape 16"/>
            <p:cNvCxnSpPr/>
            <p:nvPr/>
          </p:nvCxnSpPr>
          <p:spPr>
            <a:xfrm flipH="1">
              <a:off x="886320" y="2452320"/>
              <a:ext cx="180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0" name="Text Box 17"/>
            <p:cNvSpPr/>
            <p:nvPr/>
          </p:nvSpPr>
          <p:spPr>
            <a:xfrm>
              <a:off x="685800" y="1905120"/>
              <a:ext cx="243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“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五位一体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三、关于财政扶贫资金使用管理的突出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主要表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3" name="Group 64"/>
          <p:cNvGrpSpPr/>
          <p:nvPr/>
        </p:nvGrpSpPr>
        <p:grpSpPr>
          <a:xfrm>
            <a:off x="380880" y="1335240"/>
            <a:ext cx="8364240" cy="4084560"/>
            <a:chOff x="380880" y="1335240"/>
            <a:chExt cx="8364240" cy="4084560"/>
          </a:xfrm>
        </p:grpSpPr>
        <p:grpSp>
          <p:nvGrpSpPr>
            <p:cNvPr id="494" name="Group 32"/>
            <p:cNvGrpSpPr/>
            <p:nvPr/>
          </p:nvGrpSpPr>
          <p:grpSpPr>
            <a:xfrm>
              <a:off x="820440" y="4489560"/>
              <a:ext cx="6022440" cy="930240"/>
              <a:chOff x="820440" y="4489560"/>
              <a:chExt cx="6022440" cy="930240"/>
            </a:xfrm>
          </p:grpSpPr>
          <p:sp>
            <p:nvSpPr>
              <p:cNvPr id="495" name="Rectangle 33"/>
              <p:cNvSpPr/>
              <p:nvPr/>
            </p:nvSpPr>
            <p:spPr>
              <a:xfrm>
                <a:off x="820440" y="4728600"/>
                <a:ext cx="5677200" cy="656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55a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Group 34"/>
              <p:cNvGrpSpPr/>
              <p:nvPr/>
            </p:nvGrpSpPr>
            <p:grpSpPr>
              <a:xfrm>
                <a:off x="5862600" y="4489560"/>
                <a:ext cx="980280" cy="930240"/>
                <a:chOff x="5862600" y="4489560"/>
                <a:chExt cx="980280" cy="930240"/>
              </a:xfrm>
            </p:grpSpPr>
            <p:sp>
              <p:nvSpPr>
                <p:cNvPr id="497" name="Oval 35"/>
                <p:cNvSpPr/>
                <p:nvPr/>
              </p:nvSpPr>
              <p:spPr>
                <a:xfrm>
                  <a:off x="5862600" y="4489560"/>
                  <a:ext cx="980280" cy="9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5ada"/>
                    </a:gs>
                    <a:gs pos="100000">
                      <a:srgbClr val="2016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6"/>
                <p:cNvSpPr/>
                <p:nvPr/>
              </p:nvSpPr>
              <p:spPr>
                <a:xfrm>
                  <a:off x="5974920" y="4504680"/>
                  <a:ext cx="756000" cy="351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5a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Text Box 37"/>
              <p:cNvSpPr/>
              <p:nvPr/>
            </p:nvSpPr>
            <p:spPr>
              <a:xfrm>
                <a:off x="6241680" y="45500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38"/>
            <p:cNvGrpSpPr/>
            <p:nvPr/>
          </p:nvGrpSpPr>
          <p:grpSpPr>
            <a:xfrm>
              <a:off x="663120" y="2376720"/>
              <a:ext cx="4798440" cy="918720"/>
              <a:chOff x="663120" y="2376720"/>
              <a:chExt cx="4798440" cy="918720"/>
            </a:xfrm>
          </p:grpSpPr>
          <p:sp>
            <p:nvSpPr>
              <p:cNvPr id="501" name="Rectangle 39"/>
              <p:cNvSpPr/>
              <p:nvPr/>
            </p:nvSpPr>
            <p:spPr>
              <a:xfrm>
                <a:off x="663120" y="2606760"/>
                <a:ext cx="4143960" cy="656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ea7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Group 40"/>
              <p:cNvGrpSpPr/>
              <p:nvPr/>
            </p:nvGrpSpPr>
            <p:grpSpPr>
              <a:xfrm>
                <a:off x="4496040" y="2376720"/>
                <a:ext cx="965520" cy="918720"/>
                <a:chOff x="4496040" y="2376720"/>
                <a:chExt cx="965520" cy="918720"/>
              </a:xfrm>
            </p:grpSpPr>
            <p:grpSp>
              <p:nvGrpSpPr>
                <p:cNvPr id="503" name="Group 41"/>
                <p:cNvGrpSpPr/>
                <p:nvPr/>
              </p:nvGrpSpPr>
              <p:grpSpPr>
                <a:xfrm>
                  <a:off x="4496040" y="2376720"/>
                  <a:ext cx="965520" cy="918720"/>
                  <a:chOff x="4496040" y="2376720"/>
                  <a:chExt cx="965520" cy="918720"/>
                </a:xfrm>
              </p:grpSpPr>
              <p:sp>
                <p:nvSpPr>
                  <p:cNvPr id="504" name="Oval 42"/>
                  <p:cNvSpPr/>
                  <p:nvPr/>
                </p:nvSpPr>
                <p:spPr>
                  <a:xfrm>
                    <a:off x="4496040" y="2376720"/>
                    <a:ext cx="965520" cy="918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ea7ea"/>
                      </a:gs>
                      <a:gs pos="100000">
                        <a:srgbClr val="18324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43"/>
                  <p:cNvSpPr/>
                  <p:nvPr/>
                </p:nvSpPr>
                <p:spPr>
                  <a:xfrm>
                    <a:off x="4606920" y="2391840"/>
                    <a:ext cx="74448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ea7e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Text Box 44"/>
                <p:cNvSpPr/>
                <p:nvPr/>
              </p:nvSpPr>
              <p:spPr>
                <a:xfrm>
                  <a:off x="4778280" y="250308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45"/>
            <p:cNvGrpSpPr/>
            <p:nvPr/>
          </p:nvGrpSpPr>
          <p:grpSpPr>
            <a:xfrm>
              <a:off x="742680" y="3384720"/>
              <a:ext cx="5434920" cy="923760"/>
              <a:chOff x="742680" y="3384720"/>
              <a:chExt cx="5434920" cy="923760"/>
            </a:xfrm>
          </p:grpSpPr>
          <p:sp>
            <p:nvSpPr>
              <p:cNvPr id="508" name="Rectangle 46"/>
              <p:cNvSpPr/>
              <p:nvPr/>
            </p:nvSpPr>
            <p:spPr>
              <a:xfrm>
                <a:off x="742680" y="3641040"/>
                <a:ext cx="5050440" cy="657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Group 47"/>
              <p:cNvGrpSpPr/>
              <p:nvPr/>
            </p:nvGrpSpPr>
            <p:grpSpPr>
              <a:xfrm>
                <a:off x="5202360" y="3384720"/>
                <a:ext cx="975240" cy="923760"/>
                <a:chOff x="5202360" y="3384720"/>
                <a:chExt cx="975240" cy="923760"/>
              </a:xfrm>
            </p:grpSpPr>
            <p:grpSp>
              <p:nvGrpSpPr>
                <p:cNvPr id="510" name="Group 48"/>
                <p:cNvGrpSpPr/>
                <p:nvPr/>
              </p:nvGrpSpPr>
              <p:grpSpPr>
                <a:xfrm>
                  <a:off x="5202360" y="3384720"/>
                  <a:ext cx="975240" cy="923760"/>
                  <a:chOff x="5202360" y="3384720"/>
                  <a:chExt cx="975240" cy="923760"/>
                </a:xfrm>
              </p:grpSpPr>
              <p:sp>
                <p:nvSpPr>
                  <p:cNvPr id="511" name="Oval 49"/>
                  <p:cNvSpPr/>
                  <p:nvPr/>
                </p:nvSpPr>
                <p:spPr>
                  <a:xfrm>
                    <a:off x="5202360" y="3384720"/>
                    <a:ext cx="975240" cy="92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2525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50"/>
                  <p:cNvSpPr/>
                  <p:nvPr/>
                </p:nvSpPr>
                <p:spPr>
                  <a:xfrm>
                    <a:off x="5314320" y="3399840"/>
                    <a:ext cx="752040" cy="3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99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3" name="Text Box 51"/>
                <p:cNvSpPr/>
                <p:nvPr/>
              </p:nvSpPr>
              <p:spPr>
                <a:xfrm>
                  <a:off x="5556960" y="343440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Group 52"/>
            <p:cNvGrpSpPr/>
            <p:nvPr/>
          </p:nvGrpSpPr>
          <p:grpSpPr>
            <a:xfrm>
              <a:off x="591840" y="1365480"/>
              <a:ext cx="4233240" cy="914040"/>
              <a:chOff x="591840" y="1365480"/>
              <a:chExt cx="4233240" cy="914040"/>
            </a:xfrm>
          </p:grpSpPr>
          <p:sp>
            <p:nvSpPr>
              <p:cNvPr id="515" name="Rectangle 53"/>
              <p:cNvSpPr/>
              <p:nvPr/>
            </p:nvSpPr>
            <p:spPr>
              <a:xfrm>
                <a:off x="591840" y="1616040"/>
                <a:ext cx="3749760" cy="656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3c05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6" name="Group 54"/>
              <p:cNvGrpSpPr/>
              <p:nvPr/>
            </p:nvGrpSpPr>
            <p:grpSpPr>
              <a:xfrm>
                <a:off x="3849480" y="1365480"/>
                <a:ext cx="975600" cy="914040"/>
                <a:chOff x="3849480" y="1365480"/>
                <a:chExt cx="975600" cy="914040"/>
              </a:xfrm>
            </p:grpSpPr>
            <p:grpSp>
              <p:nvGrpSpPr>
                <p:cNvPr id="517" name="Group 55"/>
                <p:cNvGrpSpPr/>
                <p:nvPr/>
              </p:nvGrpSpPr>
              <p:grpSpPr>
                <a:xfrm>
                  <a:off x="3849480" y="1365480"/>
                  <a:ext cx="975600" cy="914040"/>
                  <a:chOff x="3849480" y="1365480"/>
                  <a:chExt cx="975600" cy="914040"/>
                </a:xfrm>
              </p:grpSpPr>
              <p:sp>
                <p:nvSpPr>
                  <p:cNvPr id="518" name="Oval 56"/>
                  <p:cNvSpPr/>
                  <p:nvPr/>
                </p:nvSpPr>
                <p:spPr>
                  <a:xfrm>
                    <a:off x="3849480" y="1365480"/>
                    <a:ext cx="975600" cy="91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3c052"/>
                      </a:gs>
                      <a:gs pos="100000">
                        <a:srgbClr val="3a4b2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57"/>
                  <p:cNvSpPr/>
                  <p:nvPr/>
                </p:nvSpPr>
                <p:spPr>
                  <a:xfrm>
                    <a:off x="3961440" y="1380600"/>
                    <a:ext cx="752400" cy="34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3c0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0" name="Text Box 58"/>
                <p:cNvSpPr/>
                <p:nvPr/>
              </p:nvSpPr>
              <p:spPr>
                <a:xfrm>
                  <a:off x="4163760" y="14670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Text Box 59"/>
            <p:cNvSpPr/>
            <p:nvPr/>
          </p:nvSpPr>
          <p:spPr>
            <a:xfrm>
              <a:off x="380880" y="174024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准：安排使用欠精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0"/>
            <p:cNvSpPr/>
            <p:nvPr/>
          </p:nvSpPr>
          <p:spPr>
            <a:xfrm>
              <a:off x="1044360" y="2778480"/>
              <a:ext cx="33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快：长期闲置睡大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61"/>
            <p:cNvSpPr/>
            <p:nvPr/>
          </p:nvSpPr>
          <p:spPr>
            <a:xfrm>
              <a:off x="1125360" y="378468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好：挥霍浪费损失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62"/>
            <p:cNvSpPr/>
            <p:nvPr/>
          </p:nvSpPr>
          <p:spPr>
            <a:xfrm>
              <a:off x="1201320" y="48690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严：项目管理不规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63"/>
            <p:cNvSpPr/>
            <p:nvPr/>
          </p:nvSpPr>
          <p:spPr>
            <a:xfrm>
              <a:off x="6511680" y="1335240"/>
              <a:ext cx="2233440" cy="1808280"/>
            </a:xfrm>
            <a:prstGeom prst="wedgeRoundRectCallout">
              <a:avLst>
                <a:gd name="adj1" fmla="val -56680"/>
                <a:gd name="adj2" fmla="val 85907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资金使用管理五大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39"/>
          <p:cNvSpPr/>
          <p:nvPr/>
        </p:nvSpPr>
        <p:spPr>
          <a:xfrm>
            <a:off x="2744640" y="5635800"/>
            <a:ext cx="4143600" cy="6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ea7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42"/>
          <p:cNvSpPr/>
          <p:nvPr/>
        </p:nvSpPr>
        <p:spPr>
          <a:xfrm>
            <a:off x="6576840" y="5405400"/>
            <a:ext cx="966960" cy="919080"/>
          </a:xfrm>
          <a:prstGeom prst="ellipse">
            <a:avLst/>
          </a:prstGeom>
          <a:gradFill rotWithShape="0">
            <a:gsLst>
              <a:gs pos="0">
                <a:srgbClr val="4ea7ea"/>
              </a:gs>
              <a:gs pos="100000">
                <a:srgbClr val="1832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4"/>
          <p:cNvSpPr/>
          <p:nvPr/>
        </p:nvSpPr>
        <p:spPr>
          <a:xfrm>
            <a:off x="6876720" y="5530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0"/>
          <p:cNvSpPr/>
          <p:nvPr/>
        </p:nvSpPr>
        <p:spPr>
          <a:xfrm>
            <a:off x="2895480" y="580716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乱来：贪占挪用饱私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5"/>
          <p:cNvSpPr/>
          <p:nvPr/>
        </p:nvSpPr>
        <p:spPr>
          <a:xfrm>
            <a:off x="1171440" y="1628640"/>
            <a:ext cx="2003400" cy="559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认识没跟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8"/>
          <p:cNvSpPr/>
          <p:nvPr/>
        </p:nvSpPr>
        <p:spPr>
          <a:xfrm>
            <a:off x="1193760" y="2514600"/>
            <a:ext cx="198108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政策没吃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9"/>
          <p:cNvSpPr/>
          <p:nvPr/>
        </p:nvSpPr>
        <p:spPr>
          <a:xfrm>
            <a:off x="1212840" y="3568680"/>
            <a:ext cx="198108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胆子有点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"/>
          <p:cNvSpPr/>
          <p:nvPr/>
        </p:nvSpPr>
        <p:spPr>
          <a:xfrm>
            <a:off x="1204920" y="4456080"/>
            <a:ext cx="196992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工作较粗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1"/>
          <p:cNvSpPr/>
          <p:nvPr/>
        </p:nvSpPr>
        <p:spPr>
          <a:xfrm>
            <a:off x="1204920" y="5353200"/>
            <a:ext cx="196992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责任不明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肘形连接符 9216"/>
          <p:cNvCxnSpPr/>
          <p:nvPr/>
        </p:nvCxnSpPr>
        <p:spPr>
          <a:xfrm flipH="1" rot="16200000">
            <a:off x="-21600" y="4679640"/>
            <a:ext cx="2177280" cy="291240"/>
          </a:xfrm>
          <a:prstGeom prst="bentConnector3">
            <a:avLst>
              <a:gd name="adj1" fmla="val 90127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6" name="肘形连接符 9218"/>
          <p:cNvCxnSpPr>
            <a:endCxn id="530" idx="1"/>
          </p:cNvCxnSpPr>
          <p:nvPr/>
        </p:nvCxnSpPr>
        <p:spPr>
          <a:xfrm flipH="1" flipV="1" rot="5400000">
            <a:off x="85320" y="2736360"/>
            <a:ext cx="1915560" cy="2577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7" name="肘形连接符 9223"/>
          <p:cNvCxnSpPr>
            <a:endCxn id="531" idx="1"/>
          </p:cNvCxnSpPr>
          <p:nvPr/>
        </p:nvCxnSpPr>
        <p:spPr>
          <a:xfrm>
            <a:off x="920880" y="279360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8" name="肘形连接符 84"/>
          <p:cNvCxnSpPr/>
          <p:nvPr/>
        </p:nvCxnSpPr>
        <p:spPr>
          <a:xfrm>
            <a:off x="920880" y="475092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9" name="肘形连接符 87"/>
          <p:cNvCxnSpPr/>
          <p:nvPr/>
        </p:nvCxnSpPr>
        <p:spPr>
          <a:xfrm>
            <a:off x="914400" y="382248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540" name="TextBox 9227"/>
          <p:cNvSpPr/>
          <p:nvPr/>
        </p:nvSpPr>
        <p:spPr>
          <a:xfrm>
            <a:off x="3505320" y="1733400"/>
            <a:ext cx="4733640" cy="398880"/>
          </a:xfrm>
          <a:prstGeom prst="rect">
            <a:avLst/>
          </a:prstGeom>
          <a:solidFill>
            <a:srgbClr val="4ea7ea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脱贫攻坚当作普通工作，无知者无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91"/>
          <p:cNvSpPr/>
          <p:nvPr/>
        </p:nvSpPr>
        <p:spPr>
          <a:xfrm>
            <a:off x="3510000" y="2487600"/>
            <a:ext cx="4734000" cy="398880"/>
          </a:xfrm>
          <a:prstGeom prst="rect">
            <a:avLst/>
          </a:prstGeom>
          <a:gradFill rotWithShape="0">
            <a:gsLst>
              <a:gs pos="0">
                <a:srgbClr val="8fd4ff"/>
              </a:gs>
              <a:gs pos="100000">
                <a:srgbClr val="def2ff"/>
              </a:gs>
            </a:gsLst>
            <a:lin ang="16200000"/>
          </a:gradFill>
          <a:ln w="9360">
            <a:solidFill>
              <a:srgbClr val="48a4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凭过去经验办事，不学习政策文件，好心办坏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92"/>
          <p:cNvSpPr/>
          <p:nvPr/>
        </p:nvSpPr>
        <p:spPr>
          <a:xfrm>
            <a:off x="3571920" y="3605040"/>
            <a:ext cx="4700520" cy="398880"/>
          </a:xfrm>
          <a:prstGeom prst="rect">
            <a:avLst/>
          </a:prstGeom>
          <a:gradFill rotWithShape="0">
            <a:gsLst>
              <a:gs pos="0">
                <a:srgbClr val="cef6a7"/>
              </a:gs>
              <a:gs pos="100000">
                <a:srgbClr val="f1fde7"/>
              </a:gs>
            </a:gsLst>
            <a:lin ang="16200000"/>
          </a:gradFill>
          <a:ln w="9360">
            <a:solidFill>
              <a:srgbClr val="82ac4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机会难得，心存侥幸，心理失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93"/>
          <p:cNvSpPr/>
          <p:nvPr/>
        </p:nvSpPr>
        <p:spPr>
          <a:xfrm>
            <a:off x="3538440" y="4371840"/>
            <a:ext cx="4734000" cy="398880"/>
          </a:xfrm>
          <a:prstGeom prst="rect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工作大而化之，没有建项目库，过程管理粗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TextBox 94"/>
          <p:cNvGrpSpPr/>
          <p:nvPr/>
        </p:nvGrpSpPr>
        <p:grpSpPr>
          <a:xfrm>
            <a:off x="3462480" y="5407200"/>
            <a:ext cx="5022720" cy="944280"/>
            <a:chOff x="3462480" y="5407200"/>
            <a:chExt cx="5022720" cy="944280"/>
          </a:xfrm>
        </p:grpSpPr>
        <p:pic>
          <p:nvPicPr>
            <p:cNvPr id="545" name="TextBox 94" descr=""/>
            <p:cNvPicPr/>
            <p:nvPr/>
          </p:nvPicPr>
          <p:blipFill>
            <a:blip r:embed="rId1"/>
            <a:stretch/>
          </p:blipFill>
          <p:spPr>
            <a:xfrm>
              <a:off x="3462480" y="5407200"/>
              <a:ext cx="502272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581280" y="5467320"/>
              <a:ext cx="47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部门之间边界不清，上下之间权责不明。既当运动员又当裁判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原因分析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四、关于财政扶贫资金使用管理的工作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示 4" descr=""/>
          <p:cNvPicPr/>
          <p:nvPr/>
        </p:nvPicPr>
        <p:blipFill>
          <a:blip r:embed="rId1"/>
          <a:stretch/>
        </p:blipFill>
        <p:spPr>
          <a:xfrm>
            <a:off x="785880" y="3560760"/>
            <a:ext cx="7827840" cy="1096920"/>
          </a:xfrm>
          <a:prstGeom prst="rect">
            <a:avLst/>
          </a:prstGeom>
          <a:ln w="0">
            <a:noFill/>
          </a:ln>
        </p:spPr>
      </p:pic>
      <p:pic>
        <p:nvPicPr>
          <p:cNvPr id="550" name="图示 5" descr=""/>
          <p:cNvPicPr/>
          <p:nvPr/>
        </p:nvPicPr>
        <p:blipFill>
          <a:blip r:embed="rId2"/>
          <a:stretch/>
        </p:blipFill>
        <p:spPr>
          <a:xfrm>
            <a:off x="781200" y="1627200"/>
            <a:ext cx="7753320" cy="1096920"/>
          </a:xfrm>
          <a:prstGeom prst="rect">
            <a:avLst/>
          </a:prstGeom>
          <a:ln w="0">
            <a:noFill/>
          </a:ln>
        </p:spPr>
      </p:pic>
      <p:pic>
        <p:nvPicPr>
          <p:cNvPr id="551" name="图示 6" descr=""/>
          <p:cNvPicPr/>
          <p:nvPr/>
        </p:nvPicPr>
        <p:blipFill>
          <a:blip r:embed="rId3"/>
          <a:stretch/>
        </p:blipFill>
        <p:spPr>
          <a:xfrm>
            <a:off x="798480" y="2309760"/>
            <a:ext cx="7759800" cy="1098720"/>
          </a:xfrm>
          <a:prstGeom prst="rect">
            <a:avLst/>
          </a:prstGeom>
          <a:ln w="0">
            <a:noFill/>
          </a:ln>
        </p:spPr>
      </p:pic>
      <p:pic>
        <p:nvPicPr>
          <p:cNvPr id="552" name="图示 7" descr=""/>
          <p:cNvPicPr/>
          <p:nvPr/>
        </p:nvPicPr>
        <p:blipFill>
          <a:blip r:embed="rId4"/>
          <a:stretch/>
        </p:blipFill>
        <p:spPr>
          <a:xfrm>
            <a:off x="792000" y="2925720"/>
            <a:ext cx="7766280" cy="1096920"/>
          </a:xfrm>
          <a:prstGeom prst="rect">
            <a:avLst/>
          </a:prstGeom>
          <a:ln w="0">
            <a:noFill/>
          </a:ln>
        </p:spPr>
      </p:pic>
      <p:sp>
        <p:nvSpPr>
          <p:cNvPr id="553" name="矩形 8"/>
          <p:cNvSpPr/>
          <p:nvPr/>
        </p:nvSpPr>
        <p:spPr>
          <a:xfrm>
            <a:off x="3087720" y="537372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−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尔顿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弗里德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https://p1.ssl.qhmsg.com/dr/220__/t0103b01f7f3dca3e2c.jpg"/>
          <p:cNvPicPr/>
          <p:nvPr/>
        </p:nvPicPr>
        <p:blipFill>
          <a:blip r:embed="rId5"/>
          <a:stretch/>
        </p:blipFill>
        <p:spPr>
          <a:xfrm>
            <a:off x="1143000" y="4508640"/>
            <a:ext cx="1584360" cy="20764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17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为什么要加强扶贫资金绩效管理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"/>
          <p:cNvGrpSpPr/>
          <p:nvPr/>
        </p:nvGrpSpPr>
        <p:grpSpPr>
          <a:xfrm>
            <a:off x="1295280" y="1493640"/>
            <a:ext cx="7218360" cy="4583520"/>
            <a:chOff x="1295280" y="1493640"/>
            <a:chExt cx="7218360" cy="4583520"/>
          </a:xfrm>
        </p:grpSpPr>
        <p:sp>
          <p:nvSpPr>
            <p:cNvPr id="124" name="Freeform 4"/>
            <p:cNvSpPr/>
            <p:nvPr/>
          </p:nvSpPr>
          <p:spPr>
            <a:xfrm rot="20241600">
              <a:off x="2187000" y="25732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"/>
            <p:cNvSpPr/>
            <p:nvPr/>
          </p:nvSpPr>
          <p:spPr>
            <a:xfrm>
              <a:off x="4616280" y="18288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6"/>
            <p:cNvSpPr/>
            <p:nvPr/>
          </p:nvSpPr>
          <p:spPr>
            <a:xfrm>
              <a:off x="2438280" y="31384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7"/>
            <p:cNvSpPr/>
            <p:nvPr/>
          </p:nvSpPr>
          <p:spPr>
            <a:xfrm>
              <a:off x="3367080" y="46134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5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5634000" y="40687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"/>
            <p:cNvSpPr/>
            <p:nvPr/>
          </p:nvSpPr>
          <p:spPr>
            <a:xfrm>
              <a:off x="7259400" y="20257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2630880" y="3495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体面生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4845240" y="21956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身心健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488360" y="2435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安全保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5845320" y="4435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能力发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3338280" y="497376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"/>
            <p:cNvSpPr/>
            <p:nvPr/>
          </p:nvSpPr>
          <p:spPr>
            <a:xfrm>
              <a:off x="4010040" y="335268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精神贫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3397320" y="2224080"/>
              <a:ext cx="1255680" cy="11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AutoShape 17"/>
            <p:cNvCxnSpPr/>
            <p:nvPr/>
          </p:nvCxnSpPr>
          <p:spPr>
            <a:xfrm flipH="1">
              <a:off x="1681920" y="22237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Text Box 18"/>
            <p:cNvSpPr/>
            <p:nvPr/>
          </p:nvSpPr>
          <p:spPr>
            <a:xfrm>
              <a:off x="1295280" y="1781280"/>
              <a:ext cx="30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基于尊严的体面生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3543840" y="4998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基本权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4"/>
          <p:cNvSpPr/>
          <p:nvPr/>
        </p:nvSpPr>
        <p:spPr>
          <a:xfrm>
            <a:off x="685800" y="2209680"/>
            <a:ext cx="2652840" cy="2549520"/>
          </a:xfrm>
          <a:custGeom>
            <a:avLst/>
            <a:gdLst>
              <a:gd name="textAreaLeft" fmla="*/ 388440 w 2652840"/>
              <a:gd name="textAreaRight" fmla="*/ 2264400 w 2652840"/>
              <a:gd name="textAreaTop" fmla="*/ 373320 h 2549520"/>
              <a:gd name="textAreaBottom" fmla="*/ 2176200 h 254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5"/>
          <p:cNvSpPr/>
          <p:nvPr/>
        </p:nvSpPr>
        <p:spPr>
          <a:xfrm>
            <a:off x="1025640" y="2522520"/>
            <a:ext cx="1995480" cy="2049480"/>
          </a:xfrm>
          <a:prstGeom prst="ellipse">
            <a:avLst/>
          </a:prstGeom>
          <a:gradFill rotWithShape="0">
            <a:gsLst>
              <a:gs pos="0">
                <a:srgbClr val="9bcdf3"/>
              </a:gs>
              <a:gs pos="100000">
                <a:srgbClr val="4ea7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2514600" y="990720"/>
            <a:ext cx="5584680" cy="892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提高精准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资金使用精准，项目安排精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7"/>
          <p:cNvSpPr/>
          <p:nvPr/>
        </p:nvSpPr>
        <p:spPr>
          <a:xfrm>
            <a:off x="2971800" y="2057400"/>
            <a:ext cx="512748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9fbf5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基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建好项目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坚持标准，动态管理，不入库不安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3429000" y="3117960"/>
            <a:ext cx="4898880" cy="731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关键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操作规范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招标投标、检查验收、支付结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9"/>
          <p:cNvSpPr/>
          <p:nvPr/>
        </p:nvSpPr>
        <p:spPr>
          <a:xfrm>
            <a:off x="3048120" y="4041720"/>
            <a:ext cx="4876560" cy="717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9fbf5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法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动多公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主动公开，全面公开，及时公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0"/>
          <p:cNvSpPr/>
          <p:nvPr/>
        </p:nvSpPr>
        <p:spPr>
          <a:xfrm>
            <a:off x="2673360" y="4952880"/>
            <a:ext cx="49752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底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确保不出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要担当，二要干事，三要干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1"/>
          <p:cNvSpPr/>
          <p:nvPr/>
        </p:nvSpPr>
        <p:spPr>
          <a:xfrm>
            <a:off x="1195560" y="308628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小标宋_GBK"/>
                <a:ea typeface="方正小标宋_GBK"/>
              </a:rPr>
              <a:t>五招管好资金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723920" y="380520"/>
            <a:ext cx="3048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结 语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600200" y="981000"/>
            <a:ext cx="37432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谋划在高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力量在基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慧在民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键在实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心在干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败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3" descr="2009101193145副本.gif"/>
          <p:cNvPicPr/>
          <p:nvPr/>
        </p:nvPicPr>
        <p:blipFill>
          <a:blip r:embed="rId1"/>
          <a:stretch/>
        </p:blipFill>
        <p:spPr>
          <a:xfrm>
            <a:off x="5867280" y="1600200"/>
            <a:ext cx="2586240" cy="33717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users\administrator\appdata\roaming\360se6\User Data\temp\54-14031210294T11.jpg"/>
          <p:cNvPicPr/>
          <p:nvPr/>
        </p:nvPicPr>
        <p:blipFill>
          <a:blip r:embed="rId2"/>
          <a:stretch/>
        </p:blipFill>
        <p:spPr>
          <a:xfrm>
            <a:off x="1143000" y="5029200"/>
            <a:ext cx="7272360" cy="174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5291280" y="6515280"/>
            <a:ext cx="183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WordArt 3" descr=""/>
          <p:cNvPicPr/>
          <p:nvPr/>
        </p:nvPicPr>
        <p:blipFill>
          <a:blip r:embed="rId1"/>
          <a:stretch/>
        </p:blipFill>
        <p:spPr>
          <a:xfrm>
            <a:off x="1962000" y="3029040"/>
            <a:ext cx="498816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3"/>
          <p:cNvGrpSpPr/>
          <p:nvPr/>
        </p:nvGrpSpPr>
        <p:grpSpPr>
          <a:xfrm>
            <a:off x="609480" y="1295280"/>
            <a:ext cx="8075520" cy="1078200"/>
            <a:chOff x="609480" y="1295280"/>
            <a:chExt cx="8075520" cy="1078200"/>
          </a:xfrm>
        </p:grpSpPr>
        <p:sp>
          <p:nvSpPr>
            <p:cNvPr id="142" name="AutoShape 4"/>
            <p:cNvSpPr/>
            <p:nvPr/>
          </p:nvSpPr>
          <p:spPr>
            <a:xfrm>
              <a:off x="691560" y="1295280"/>
              <a:ext cx="7993440" cy="10782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5"/>
            <p:cNvSpPr/>
            <p:nvPr/>
          </p:nvSpPr>
          <p:spPr>
            <a:xfrm>
              <a:off x="867600" y="1394640"/>
              <a:ext cx="1539360" cy="881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未知"/>
            <p:cNvGrpSpPr/>
            <p:nvPr/>
          </p:nvGrpSpPr>
          <p:grpSpPr>
            <a:xfrm>
              <a:off x="963000" y="1451160"/>
              <a:ext cx="761760" cy="432000"/>
              <a:chOff x="963000" y="1451160"/>
              <a:chExt cx="761760" cy="432000"/>
            </a:xfrm>
          </p:grpSpPr>
          <p:pic>
            <p:nvPicPr>
              <p:cNvPr id="14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963000" y="1451160"/>
                <a:ext cx="755280" cy="42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963000" y="1451520"/>
                <a:ext cx="7617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7"/>
            <p:cNvSpPr/>
            <p:nvPr/>
          </p:nvSpPr>
          <p:spPr>
            <a:xfrm>
              <a:off x="609480" y="1472040"/>
              <a:ext cx="195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提   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2616840" y="1461600"/>
              <a:ext cx="58759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620640" y="2517840"/>
            <a:ext cx="8064360" cy="984240"/>
            <a:chOff x="620640" y="2517840"/>
            <a:chExt cx="8064360" cy="984240"/>
          </a:xfrm>
        </p:grpSpPr>
        <p:sp>
          <p:nvSpPr>
            <p:cNvPr id="150" name="AutoShape 10"/>
            <p:cNvSpPr/>
            <p:nvPr/>
          </p:nvSpPr>
          <p:spPr>
            <a:xfrm>
              <a:off x="620640" y="2517840"/>
              <a:ext cx="8064360" cy="9842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1"/>
            <p:cNvSpPr/>
            <p:nvPr/>
          </p:nvSpPr>
          <p:spPr>
            <a:xfrm>
              <a:off x="797760" y="2608560"/>
              <a:ext cx="1553040" cy="8049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894600" y="2660040"/>
              <a:ext cx="775440" cy="4028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1101960" y="2540520"/>
              <a:ext cx="9122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创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机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2562840" y="2676600"/>
              <a:ext cx="59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利用机会（享受公共资源，就业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起点机会（贫困代际传递，教育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620640" y="3598920"/>
            <a:ext cx="8064360" cy="1076400"/>
            <a:chOff x="620640" y="3598920"/>
            <a:chExt cx="8064360" cy="1076400"/>
          </a:xfrm>
        </p:grpSpPr>
        <p:sp>
          <p:nvSpPr>
            <p:cNvPr id="156" name="AutoShape 16"/>
            <p:cNvSpPr/>
            <p:nvPr/>
          </p:nvSpPr>
          <p:spPr>
            <a:xfrm>
              <a:off x="620640" y="3598920"/>
              <a:ext cx="8064360" cy="1076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797760" y="3698280"/>
              <a:ext cx="1553040" cy="8802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894600" y="3754440"/>
              <a:ext cx="775440" cy="440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9"/>
            <p:cNvSpPr/>
            <p:nvPr/>
          </p:nvSpPr>
          <p:spPr>
            <a:xfrm>
              <a:off x="620640" y="3662640"/>
              <a:ext cx="19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提  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能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2562840" y="3745440"/>
              <a:ext cx="592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健康能力（体格、精神健康以及与社会环境的适应性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知识能力（认识能力、知识水平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就业能力（技能、技术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609480" y="4894200"/>
            <a:ext cx="8398800" cy="1440000"/>
            <a:chOff x="609480" y="4894200"/>
            <a:chExt cx="8398800" cy="1440000"/>
          </a:xfrm>
        </p:grpSpPr>
        <p:sp>
          <p:nvSpPr>
            <p:cNvPr id="162" name="AutoShape 10"/>
            <p:cNvSpPr/>
            <p:nvPr/>
          </p:nvSpPr>
          <p:spPr>
            <a:xfrm>
              <a:off x="609480" y="4894200"/>
              <a:ext cx="8218800" cy="1440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790200" y="5164920"/>
              <a:ext cx="1582920" cy="880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888480" y="5049720"/>
              <a:ext cx="790200" cy="4410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1112400" y="50929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保  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权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2490480" y="4989600"/>
              <a:ext cx="651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权利（道德权利、法律原则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经济权利（财产权、劳动权、报酬权、息权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社会权利（社会保障权、获得帮助权、获得基本公共服务权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参与权利（决策、监督、管理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矩形 27"/>
          <p:cNvSpPr/>
          <p:nvPr/>
        </p:nvSpPr>
        <p:spPr>
          <a:xfrm>
            <a:off x="2484360" y="1523880"/>
            <a:ext cx="65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基本私人物品（满足物质生活的消费必需品、收入、资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基本公共物品（设施性、服务性、保障性、环保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354560" y="304920"/>
            <a:ext cx="364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隶书"/>
                <a:ea typeface="隶书"/>
              </a:rPr>
              <a:t>减贫的基本路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33"/>
          <p:cNvSpPr/>
          <p:nvPr/>
        </p:nvSpPr>
        <p:spPr>
          <a:xfrm>
            <a:off x="228600" y="1828800"/>
            <a:ext cx="635796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4ea7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75"/>
          <p:cNvSpPr/>
          <p:nvPr/>
        </p:nvSpPr>
        <p:spPr>
          <a:xfrm>
            <a:off x="152280" y="43434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6"/>
          <p:cNvSpPr/>
          <p:nvPr/>
        </p:nvSpPr>
        <p:spPr>
          <a:xfrm>
            <a:off x="3058920" y="4572000"/>
            <a:ext cx="39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准扶贫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3-20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（贫困户、贫困人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7"/>
          <p:cNvSpPr/>
          <p:nvPr/>
        </p:nvSpPr>
        <p:spPr>
          <a:xfrm rot="20826600">
            <a:off x="768240" y="3246120"/>
            <a:ext cx="1076400" cy="855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3"/>
          <p:cNvSpPr/>
          <p:nvPr/>
        </p:nvSpPr>
        <p:spPr>
          <a:xfrm>
            <a:off x="3475800" y="327168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发扶贫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986-20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（贫困县、贫困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4"/>
          <p:cNvSpPr/>
          <p:nvPr/>
        </p:nvSpPr>
        <p:spPr>
          <a:xfrm>
            <a:off x="1447920" y="21337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8"/>
          <p:cNvSpPr/>
          <p:nvPr/>
        </p:nvSpPr>
        <p:spPr>
          <a:xfrm>
            <a:off x="1370160" y="1873080"/>
            <a:ext cx="84744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9"/>
          <p:cNvSpPr/>
          <p:nvPr/>
        </p:nvSpPr>
        <p:spPr>
          <a:xfrm>
            <a:off x="1887480" y="2144880"/>
            <a:ext cx="61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.0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体制扶贫：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978-198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年（包产到户，改革开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我国扶贫开发的主要历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5943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脱贫攻坚的主要任务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352680" y="2227320"/>
            <a:ext cx="4800600" cy="820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政治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必须完成，提头来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733920" y="3370320"/>
            <a:ext cx="4876560" cy="820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历史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荣神圣，成就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459240" y="4495680"/>
            <a:ext cx="469404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艰巨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绣花功夫，打赢打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887400" y="2389320"/>
            <a:ext cx="2822760" cy="2868480"/>
          </a:xfrm>
          <a:custGeom>
            <a:avLst/>
            <a:gdLst>
              <a:gd name="textAreaLeft" fmla="*/ 413280 w 2822760"/>
              <a:gd name="textAreaRight" fmla="*/ 2409480 w 2822760"/>
              <a:gd name="textAreaTop" fmla="*/ 419760 h 2868480"/>
              <a:gd name="textAreaBottom" fmla="*/ 2448720 h 286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1174680" y="2668680"/>
            <a:ext cx="2347920" cy="2303280"/>
          </a:xfrm>
          <a:prstGeom prst="ellipse">
            <a:avLst/>
          </a:prstGeom>
          <a:gradFill rotWithShape="0">
            <a:gsLst>
              <a:gs pos="0">
                <a:srgbClr val="9bcdf3"/>
              </a:gs>
              <a:gs pos="100000">
                <a:srgbClr val="4ea7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1371600" y="3471840"/>
            <a:ext cx="21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大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3"/>
          <p:cNvGrpSpPr/>
          <p:nvPr/>
        </p:nvGrpSpPr>
        <p:grpSpPr>
          <a:xfrm>
            <a:off x="457200" y="2111400"/>
            <a:ext cx="8152560" cy="3374640"/>
            <a:chOff x="457200" y="2111400"/>
            <a:chExt cx="8152560" cy="3374640"/>
          </a:xfrm>
        </p:grpSpPr>
        <p:sp>
          <p:nvSpPr>
            <p:cNvPr id="186" name="AutoShape 4"/>
            <p:cNvSpPr/>
            <p:nvPr/>
          </p:nvSpPr>
          <p:spPr>
            <a:xfrm>
              <a:off x="457200" y="2341080"/>
              <a:ext cx="3044160" cy="2862360"/>
            </a:xfrm>
            <a:custGeom>
              <a:avLst/>
              <a:gdLst>
                <a:gd name="textAreaLeft" fmla="*/ 446040 w 3044160"/>
                <a:gd name="textAreaRight" fmla="*/ 2598120 w 3044160"/>
                <a:gd name="textAreaTop" fmla="*/ 419760 h 2862360"/>
                <a:gd name="textAreaBottom" fmla="*/ 2442600 h 286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5"/>
            <p:cNvSpPr/>
            <p:nvPr/>
          </p:nvSpPr>
          <p:spPr>
            <a:xfrm>
              <a:off x="746640" y="2619720"/>
              <a:ext cx="2529720" cy="230328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>
              <a:off x="3047760" y="2111400"/>
              <a:ext cx="481680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打向哪里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贫困县、贫困村、贫困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3640320" y="3023640"/>
              <a:ext cx="4969440" cy="55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用什么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政策组合拳，五个一批，六个精准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"/>
            <p:cNvSpPr/>
            <p:nvPr/>
          </p:nvSpPr>
          <p:spPr>
            <a:xfrm>
              <a:off x="3640320" y="3982320"/>
              <a:ext cx="4969440" cy="55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么去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超常规措施，人海战术，定向爆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0"/>
            <p:cNvSpPr/>
            <p:nvPr/>
          </p:nvSpPr>
          <p:spPr>
            <a:xfrm>
              <a:off x="3123720" y="4930200"/>
              <a:ext cx="5104800" cy="55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哪个去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五级书记带头抓，各级各方共同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11"/>
          <p:cNvSpPr/>
          <p:nvPr/>
        </p:nvSpPr>
        <p:spPr>
          <a:xfrm>
            <a:off x="838080" y="345456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小标宋_GBK"/>
                <a:ea typeface="方正小标宋_GBK"/>
              </a:rPr>
              <a:t>四大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怎么打脱贫攻坚战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"/>
          <p:cNvGrpSpPr/>
          <p:nvPr/>
        </p:nvGrpSpPr>
        <p:grpSpPr>
          <a:xfrm>
            <a:off x="317520" y="1905120"/>
            <a:ext cx="8292600" cy="3657240"/>
            <a:chOff x="317520" y="1905120"/>
            <a:chExt cx="8292600" cy="3657240"/>
          </a:xfrm>
        </p:grpSpPr>
        <p:sp>
          <p:nvSpPr>
            <p:cNvPr id="195" name="AutoShape 4"/>
            <p:cNvSpPr/>
            <p:nvPr/>
          </p:nvSpPr>
          <p:spPr>
            <a:xfrm>
              <a:off x="317520" y="2487960"/>
              <a:ext cx="2400480" cy="2551680"/>
            </a:xfrm>
            <a:custGeom>
              <a:avLst/>
              <a:gdLst>
                <a:gd name="textAreaLeft" fmla="*/ 351720 w 2400480"/>
                <a:gd name="textAreaRight" fmla="*/ 2048760 w 2400480"/>
                <a:gd name="textAreaTop" fmla="*/ 374400 h 2551680"/>
                <a:gd name="textAreaBottom" fmla="*/ 2177280 h 255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"/>
            <p:cNvSpPr/>
            <p:nvPr/>
          </p:nvSpPr>
          <p:spPr>
            <a:xfrm>
              <a:off x="566640" y="2743920"/>
              <a:ext cx="1995480" cy="204840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6"/>
            <p:cNvSpPr/>
            <p:nvPr/>
          </p:nvSpPr>
          <p:spPr>
            <a:xfrm>
              <a:off x="2056680" y="1905120"/>
              <a:ext cx="6047640" cy="577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抓整改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以整改促攻坚，再不改就来不及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7"/>
            <p:cNvSpPr/>
            <p:nvPr/>
          </p:nvSpPr>
          <p:spPr>
            <a:xfrm>
              <a:off x="2590920" y="2666160"/>
              <a:ext cx="5891760" cy="60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攻深贫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深度贫困区域、特殊贫困人口、脱贫突出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8"/>
            <p:cNvSpPr/>
            <p:nvPr/>
          </p:nvSpPr>
          <p:spPr>
            <a:xfrm>
              <a:off x="2753280" y="3505320"/>
              <a:ext cx="5856840" cy="61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补短板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产业就业扶贫、易地扶贫搬迁、市场社会参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2590920" y="4299840"/>
              <a:ext cx="589176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质量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扶上马送一程，时间服从质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0"/>
            <p:cNvSpPr/>
            <p:nvPr/>
          </p:nvSpPr>
          <p:spPr>
            <a:xfrm>
              <a:off x="2208600" y="5006160"/>
              <a:ext cx="604404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建机制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政策到户机制，志智双扶机制，防止返贫机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矩形 12"/>
          <p:cNvSpPr/>
          <p:nvPr/>
        </p:nvSpPr>
        <p:spPr>
          <a:xfrm>
            <a:off x="574560" y="3505320"/>
            <a:ext cx="24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个关键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7400" y="503280"/>
            <a:ext cx="6406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脱贫攻坚的新任务新要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涪陵电大</cp:lastModifiedBy>
  <dcterms:modified xsi:type="dcterms:W3CDTF">2019-06-21T09:19:19Z</dcterms:modified>
  <cp:revision>98</cp:revision>
  <dc:subject/>
  <dc:title>PowerPoint Template</dc:title>
</cp:coreProperties>
</file>