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042-2247-4F32-BECE-AB6B81CD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369-EDC8-4F63-BAC3-87AD6D2C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4A5-4D66-49B9-A368-4593DD73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308-3A4B-4C90-B8B2-FC638814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942-6000-4EAB-BF1F-95DBE43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605A-AE26-4BBF-AABD-0B2F0D9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BCE9-7170-4201-8546-9E65F70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72E-0197-4E8A-9576-F0F6F1C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E37-94E9-483C-8495-9768771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DB9-D81B-43C1-B30E-4F2DAB9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23C-7FFF-4898-8DAA-DBF3C8B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DA2-5BA7-4BEE-8E80-AEB7CDCA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D5A1-5077-4C98-B924-A85F0AE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9BD-E0F5-49E7-8EA3-E85EF32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248-7924-4165-BAC5-15E7C57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DD76-ECF7-4FD9-BB8F-DBC760A9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D2C-3FBA-472E-9941-89B79F9F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DDB-30DF-4AF9-AC38-4407010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D56-5E5C-44CB-A509-E1EA587B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531-E234-4DD2-89DF-54C350D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BDF-D6D9-4334-AF8B-5414992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33F-2796-44CA-82BB-296235A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243-50DC-4132-9AEE-9415B88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AD5-14C7-4717-9A19-2FEDE94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2C41-150F-44AB-819C-A4B9C1184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563-C3D2-4F35-9D92-E3E8D8DD288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514600" y="32925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重庆市涪陵区扶贫开发办公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2520" y="3886200"/>
            <a:ext cx="1447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田</a:t>
            </a:r>
            <a:r>
              <a:rPr b="0" lang="en-US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</a:t>
            </a: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8580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帮扶干部入户走访“六看六问”工作法</a:t>
            </a:r>
            <a:r>
              <a:rPr b="0" lang="en-US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220968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问教育资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子女义务教育阶段享受教育资助情况，问资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57200" y="23623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问饮水安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能否正常饮水，水量、水质以及用水方便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990720"/>
            <a:ext cx="8381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问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扶贫小额信贷获贷情况、投入产业发展情况、扶贫小额信贷政策的知晓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什么是扶贫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对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主要用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中的实施主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帮扶干部在扶贫小额信贷中的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22096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问帮扶需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致贫原因、生产生活中存在实际困难以及亟需解决的突出问题，问对帮扶工作是否满意、还有什么诉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42900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谢谢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          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看环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周边环境是否存在“脏乱差”现象、室内室外房前屋后是否清洁卫生、院坝庭院生产生活工具是否分类摆放整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533520" y="1981080"/>
            <a:ext cx="8305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看住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所住房屋是否存在安全隐患、是否是唯一住房、是否有经济能力改造、是否长期无人居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方正楷体_GBK"/>
                <a:ea typeface="方正楷体_GBK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80880" y="20574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看吃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家里有无满足基本生活需求的口粮及其他必要营养食品、家庭成员有无四季换洗衣服和棉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457200" y="175248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看专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户专栏上明白卡基础信息是否真实准确、联心卡基本信息是否真实准确、扶贫惠民政策摘编是否表述准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1905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看手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《重庆市脱贫攻坚帮扶手册》帮扶措施是否齐全、帮扶成效是否明显、填写是否规范、收入台账是否前后一致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57200" y="20574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看资料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有无贫困户收入调查表、扶贫到户政策汇编、医疗服务协议、各类保险单据、帮扶手册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57200" y="13716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问家庭收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所从事职业及家庭经营性、工资性、财产性、保障性收入等情况，问收入是否达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43200" y="3886200"/>
            <a:ext cx="4648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发展扶贫产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开展就业扶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做好兜底保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Times New Roman"/>
                <a:ea typeface="方正仿宋_GBK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3520" y="1066680"/>
            <a:ext cx="8001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问医疗救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医保参保情况、特病卡办理情况、就医门诊和住院报销的比例和金额，问救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户参加医疗保险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慢病患者特病卡办理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医疗救助的重大政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家庭医生签约服务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门诊和住院自付比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9T04:46:16Z</dcterms:created>
  <dc:creator>Administrator</dc:creator>
  <dc:description/>
  <dc:language>en-US</dc:language>
  <cp:lastModifiedBy>王兴洪</cp:lastModifiedBy>
  <dcterms:modified xsi:type="dcterms:W3CDTF">2019-09-04T03:25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